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27.jpeg" ContentType="image/jpeg"/>
  <Override PartName="/ppt/media/image33.jpeg" ContentType="image/jpeg"/>
  <Override PartName="/ppt/media/image34.gif" ContentType="image/gif"/>
  <Override PartName="/ppt/media/image4.png" ContentType="image/png"/>
  <Override PartName="/ppt/media/image1.gif" ContentType="image/gif"/>
  <Override PartName="/ppt/media/image3.png" ContentType="image/png"/>
  <Override PartName="/ppt/media/image17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  <p:sldId id="291" r:id="rId62"/>
    <p:sldId id="292" r:id="rId63"/>
    <p:sldId id="293" r:id="rId64"/>
    <p:sldId id="294" r:id="rId65"/>
    <p:sldId id="295" r:id="rId66"/>
    <p:sldId id="296" r:id="rId67"/>
    <p:sldId id="297" r:id="rId68"/>
    <p:sldId id="298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slide" Target="slides/slide36.xml"/><Relationship Id="rId63" Type="http://schemas.openxmlformats.org/officeDocument/2006/relationships/slide" Target="slides/slide37.xml"/><Relationship Id="rId64" Type="http://schemas.openxmlformats.org/officeDocument/2006/relationships/slide" Target="slides/slide38.xml"/><Relationship Id="rId65" Type="http://schemas.openxmlformats.org/officeDocument/2006/relationships/slide" Target="slides/slide39.xml"/><Relationship Id="rId66" Type="http://schemas.openxmlformats.org/officeDocument/2006/relationships/slide" Target="slides/slide40.xml"/><Relationship Id="rId67" Type="http://schemas.openxmlformats.org/officeDocument/2006/relationships/slide" Target="slides/slide41.xml"/><Relationship Id="rId68" Type="http://schemas.openxmlformats.org/officeDocument/2006/relationships/slide" Target="slides/slide42.xml"/><Relationship Id="rId69" Type="http://schemas.openxmlformats.org/officeDocument/2006/relationships/slide" Target="slides/slide43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53A7-9E01-4E47-A702-FFBC988E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179B-48EC-497A-A781-C70E4986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3F447-05C2-4FE7-A974-1FB8D453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EC1CC-8628-41D8-A31E-E659CE54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9B724-9F23-4A14-A316-083AD6F2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3759B-7A06-4ABD-9679-9DE15CA9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16F61-9A2A-48CB-8EAB-D59DB790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710CF-5D67-4F82-8B35-8CF66118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CFC2A-3980-458A-9E2D-916D3F1C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F972C-6A1F-4FAE-B17B-94421EF3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61082-E6E8-4D1F-956E-B744A255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70BB4-5685-4FD4-B677-ACC63440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38D-EC1E-45F5-B603-ACCBAD44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96428-E75D-4642-B0C2-29B40C75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C656A-7812-4609-A400-C7220541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B6B4C-4378-457A-A82D-AFB8D2C4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541D4-8587-4BB6-97CE-CD56637C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5490E-55E4-42AB-9038-69200F01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D440C-6D7F-492E-B85E-BD5E77E0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11CDE-3DAD-4A54-9245-1D170C1A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25CE2-065C-4BA3-952C-7767793B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670C9-F2BB-498F-BFAA-09824E76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501A2-14B7-4929-B147-669F7DD1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C3B6-FC08-4D08-97CF-1EDB92BE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6738D-9F61-497C-AC59-216E7414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DC7CB-EAA1-4345-8E97-73F55FE3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B55DB-46AE-43DE-9D1B-013572C5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961CA-54C2-48CA-BA6E-41C797A9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3D2FB-8EFC-4DB9-A28D-423F8F2C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0ED24-C29C-43C6-BBB8-A72DADF4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4C6C1-4CA7-4B8A-993B-90FA700E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8A931-3255-4838-AF2D-A29AC3E8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FFAFF-30BF-445D-B6F4-D20EE2B9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A0C29-CA5A-46B4-9FFC-085E7E48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E5C5-4343-42A3-AE17-D56BC5D0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C0387-1804-4444-A7B4-FCF713A3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2A5A2-E7D2-4ED8-B234-DE47D8BF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626A9-B39F-4CA7-9E74-25CE0A79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45355-9B1A-48AD-920E-92CBCC43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A7C44-76D1-401D-8843-C1BBBD09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6F4CC-8BBA-4CFF-82D4-D407E390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51520-64AD-4EC4-8993-F280D991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C8F7C-D5AE-4EB5-84DE-B654BF4F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9E038-6D8E-4146-A4E8-BA13790A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E2104-3770-4D34-B42C-6C638855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DB8A-E305-4E9B-9836-49FA7760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30D7B-81A3-46CC-86BB-AAECC847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16479-D0FA-40CB-91EB-8D22AD25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227C9-D3EE-4169-9BB8-11B7178F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1716A-9F7B-4438-B961-2FE97905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AB1CB-4A18-4DE9-9864-5BFF8881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93D444-5574-408F-8B06-98B0A229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CE69FF-BB2E-47F4-B91F-1BCB4699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05F1D-D019-4ACE-A7EC-678F51F1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88DAC-A6A0-4322-86EE-FEDB6FEA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346FD-AD31-4FFB-9F7C-16AF9E6B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2633-3061-428E-86E3-557C81DF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8138E8-1934-43C1-8646-7E3DAB1B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D0083-92F3-4EF8-86DB-D539AD6F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D5C4C6-F914-49F7-8C11-BC2BAA83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30AA3-1BD7-4913-91FC-D5AB7C15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EB5FAE-64F9-4CBB-82F7-32411639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6A584-8BF2-4458-AD80-AF5448AC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F6DE85-C7A9-46EC-935C-3A2C7E17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E2CFDB-4DA4-41DC-A81C-5A1855A6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C7ACD65-A279-472C-901A-4443E7A1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A08C28-431C-4F73-B715-C8962F03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FF4B-67F4-41F9-B5A2-FCAA3C36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CA7B4E-E339-4EB3-9DE6-53862281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AAA6A0-C0DB-48AA-9CBB-6DFC26FD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4C97FF-566E-4884-B483-F48F113C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3915F9-9CD0-4090-8EB9-40423120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C49485-FDB4-4D09-9366-85E3F1F8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14D9BA-6B98-4FBA-BC43-852F9FED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18F72C4-B0CE-47FB-BB2F-D02A5ED8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239C843-393F-48DF-9D71-168E910B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DBA4AC-1AB1-4419-AAB3-B4FB974F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2B302B-B607-4D79-AC99-7EB21CA3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48E8-FE12-490B-B0FB-4605BBB9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A24455-C48F-446A-B5B4-6F9D35DF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A9DAAB-B09D-4C39-82D3-2F258954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7C9FEC-1A67-4B04-80F6-72BA9B64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C907EC-03E1-4D65-A5C3-94245A85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89A0D1-1638-4741-9DE4-2A242010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53FA69-B95D-48DB-8413-2098EC02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AAF8BA-4B13-4B14-B204-830AAD0D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AA3E3D-3B2F-4B70-83FB-ACC7ABBD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D9B268-3BF4-4EE5-9722-FFE0A0AB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2B6401-A650-4177-BF16-69057D75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A02C-6D9F-4987-A328-2E638750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F9E44D-0E6D-4592-8ED0-60818BE4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41EB7DB-4F8C-474D-8A60-56082582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6FA5753-0696-4C80-8CFF-E53EA3E4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0C6E4DB-1C6B-4068-81D1-040B2579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D68E271-41CA-42AD-BBC6-6C10FD8D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8DB85E3-121C-4E4F-88E4-9593C9A9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6CAD532-A556-48C0-AE33-FDB289A4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A7EC762-9F09-4828-B4E4-29D90A61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DF70F55-B871-46EB-BAA2-A57CA013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590F769-6856-47D7-9569-304D33FC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F424-DA3F-40F4-88CD-D2E9D1FF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B3EAE00-24B6-4B47-8F09-A3D26C02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7DBAA87-698D-4146-99EB-44DC0F31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BBABF38-0007-44FF-8064-29EE63F6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101B4D-86AD-4E15-940E-0C77C9A1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12F03A-9BA0-4CDB-9808-820104F2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D3C5A8-4AA3-4B70-8A64-F69B8BB2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C37E05-5314-4E5A-8359-DB6A732C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B5AA88-97E5-48EB-853D-3B62FE3F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7ECAD6-A92F-4F9B-9A52-56BC5D7B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4929E2-19A4-4FDF-8057-7B352B15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D323-2561-4113-96CB-8EDBDCBB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AAED-586A-4F6F-BF5F-B6CF8FC9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DA18A6-19D3-4ABB-B7D8-0B28B304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5901B9-ACE4-4274-8F55-E444C97A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0E6F50-6415-4AB9-94A3-DDF38822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514E03-7178-4A29-AC5B-E1BCDFFB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0262FA-BBD8-40E2-9887-3D3EF823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B76FF4-3197-4F81-811C-9AEC49A1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E9B244-8A32-4311-BEC0-D8407744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D5FDF7-12EE-4DBC-BE26-FAB7BB6F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E64BFB-F7B6-4860-9101-9B1979DF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C350C8-50CF-43F7-8555-82F29C67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D234-B6CA-47B5-A40D-775A7D29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C93BF9-A0A3-4844-9113-66536167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6E5102-366B-42DE-909F-5B34070F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BBFDF1-3577-4E7C-92D7-D30943FA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97446D-BABE-4608-9A7B-59DAE9E1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1B4954-9962-4A28-9108-06F495D5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A7C973-B23D-48DE-9239-638A8286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D76251-64F8-4F82-9B8C-E6537882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B9AC37-A6E6-49CD-8FAE-66FA3877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99E9F6-C531-4D3A-BB6D-1F2936EF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E122BF-5B91-4860-9BB5-E568A789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33F0-8601-4CD5-A12A-C5E53121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182BB3-D898-49F1-A310-816C886C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0847FB-CB12-45C7-92F9-B1A48ACA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AE8F12-6590-4ED8-A45C-5BA028BB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C889AB-DF9B-4E05-8A98-EA6D1433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1A1A64-F146-458F-8254-B1611076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038FBC-DD5D-4FAB-8FAA-C56BF76A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FA845A-C1C8-4788-8599-E89E2280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34792A-FA8C-4F08-B08D-C0E1A048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F1C0D9-4C41-4323-B244-1EB53C9D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EF0C72-FD2A-40DD-BD90-2151C6DF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8193-4B58-4CA4-8EA5-26450677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41760D-1273-44DA-9DB2-6893B06C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72EE3A-B9B5-4335-A048-4C142FFA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9987C4-19DC-4C75-AA2F-2CC7497F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4897F0-C05D-4B97-BAFB-FD76BF4D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B101DE-12B0-4170-A83A-26D1003D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819009-0388-421C-8DE3-91824ECC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18E193-08A3-41DC-9D70-E1A7E707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ED6917-86B4-49F4-AD9D-03182C46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FCA8A1-36B4-4C67-A25F-AFE8DDF9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A99824-FDF5-4B6E-9EE8-399E96C6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F07F-5CA9-4C10-A18C-8B16BE0C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A47A85-2B17-4AEA-90F1-446D528A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671DE8-44A3-47B6-BF7B-55856AB6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096C8C-659B-49AB-B3F7-33C3305D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A21612-C38C-4170-B9C0-EAA67F7B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25462A-AE5D-4D92-B550-743CB088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E1DC37-27AC-44C9-98F5-12E0E001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A72323-5862-46EF-BE2C-CE7F6AA9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E417A9-D833-44DA-BBA0-1302DFC1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76CA06-1D2D-4449-9F60-CAADD38D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1D3987-D374-4DC5-A39B-8522B29E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EBDF4-69FB-418E-BAFD-E5047639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C7BDBE-5EBD-4381-A201-50A1B33D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351875-F5B2-40D5-BBAB-EC85BAFD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66496D-A3D4-4D35-9C2F-B936D1F3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B3C80E-8F72-4FA2-9F87-E400079C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07C6BF-2078-4D3D-B117-BC2ECBFB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2E1F76-EDF9-4452-88B4-53DFA284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DF477D-0923-49CB-93C0-5B1A346B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F8EA73-7161-4759-834B-37DAC86D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33F368-A0F2-4D2F-9E65-6DB5F9E6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AF38D7-32A7-45FA-B751-079C02E6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924B8-247E-4AB8-B866-C1231289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0D22D0-B772-45BE-B6CB-F21DD705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C53A19-FDCD-4601-A1FD-B7683EB7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08C0F6-F92D-4E80-B388-3C6CB4E2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646BAD-267E-4962-A44E-E07CA499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7BDD0F-290E-496B-A4C9-51C31F46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0FA2EC-41A8-45D1-A1F2-C07531E4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46D18E-DE25-4D2F-BB10-6B7CD334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1EB19B-5E4B-4235-9433-20C5A8FE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AEC6C8-B1F9-4411-9147-A3E10171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9838BD-C196-45B4-99C7-78E05BA3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061F-1B49-4B45-8631-E054F0B2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6E7562-510A-49C7-97C7-9DAAED0A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1C42AA-3C26-4D6C-AB43-699A2242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503A7C-700C-4FAC-B50D-11BA935A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2ADA9D-7EB1-4B26-A19E-66D79514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B55E62-A62C-442C-A957-8FA8BD7C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007A20-E95D-4E04-8F78-69040DD6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B4EBE3-2089-4885-BA3E-2B48CD97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42BC52-2183-41B2-94A4-C6C5AA56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46477F-88F1-49D1-963F-D8B13563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1E8EC1-DF26-4AE0-B2AD-D8D9E580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57C35-7E79-4817-8E90-9605260E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383599-644A-4CA4-824A-4128F4E5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3CE279-ADE4-469E-A090-55FCE672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324188-C9A5-46D9-9A65-1BD83FF3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BC8134-1F44-49C9-A83C-90ED2293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5EDECC-CA6E-4524-AC98-21A1C8EF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3D92E2-903A-4B36-BB3E-E4FBA67D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ECCF48-2E46-4E46-9406-0044EAB6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7CC022-E60A-4A54-978E-D93F3467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F1A2F1-CA53-47E4-B651-45832564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B056D1-6E7E-4D0C-A9A3-DB8711E8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0371C-7DED-4677-87AF-20199198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C6545B-BB6C-4342-823F-1DD0D109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67AC4B-6E86-444F-B1B6-AFCA29A8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4E8129-D47B-4366-9328-6B290E81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2790A9-3962-4E0C-9BA5-1E77C04C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EE3286-D6AC-4867-B06B-5B1C1FF5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898166-BBBA-4A77-95E0-9E622938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A32F79-62FE-4586-82F2-A81F1301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0A8C79-2BB5-447C-8644-6481E5F1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CFF00B-48B7-46FE-9E2D-C65C094C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A97DFD-98A1-4C07-B539-B214F82A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8869-D45B-4FEB-B3AA-FCB104A2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954C2-A7B7-4FE1-9C34-0CB8D653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B33074-6209-48E6-8DDE-4762EAFC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14FB3-4348-4B08-8A02-7CEBD1BD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EEE81-BCF6-42CF-957E-FA7FF1D3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49DD7-9087-4BB6-91F0-07124D77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74DB4-1A84-4E80-B021-0B78478A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1466A-51F2-4452-93D6-48A03356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11F29-7BD6-4989-BC77-CC190418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3DC75-97E7-4944-B02D-FC2681D3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A1DC2-A877-4010-87AC-767C04AD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33AAC-9740-46BE-9AAD-BF91388D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995-6456-42B6-BFEE-1844F47A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8E9ED-FBE3-481C-8400-F69217B2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BEBEE-22B9-4D54-BF80-B4187321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FD2D6-C200-4A75-9E48-7319B778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BDD3F-BBEE-4755-983E-8C32DC59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679C3-02F6-41EA-B8C8-3697C8C1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2DA32-3691-485B-A491-E76ED00F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94AEA-35C1-4BB8-91BD-A50F87FA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38243-51F6-4290-864D-FAD022E6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79858-B7E7-4CB5-82B7-6418A73B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541AA-CA59-4E80-8C21-BD90B46E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291-31DC-4641-9796-71A6E849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45AE1-6951-45CB-944E-59447C2C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AFE39-D9B5-45C5-9079-DB043851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25B61-A8A2-4A49-8021-1CE47B3D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27141-3596-4598-80F5-D9954779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FC314-249C-46E1-90EA-5DC95F44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67C13-5734-4C3F-BB07-1AD6A9CF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86B10-ECFB-456D-8B79-0F578656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BA1CE-CB82-474E-B43B-7953A7D3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077AD-25A3-4314-96B0-9EC34193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FBFED-588E-468E-8D30-2A7BB6A2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DC5C-EEE2-49C4-81A7-3355CD24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6E65A-83E6-45AB-A06F-458528A4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FDADE-A66A-4958-AD3D-50071BFD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8B8CF-591C-41E4-A886-4DDC7B2D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9AB1F-B699-4B0C-8782-178203A6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DA159-5753-46B8-8399-88432D24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1199D-2261-4A22-94F2-14747BC0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B9913-39BF-4837-9587-0D4B3102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B0D1B-50EC-4EFF-ACC0-BC9DCBD3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453BE-C6E0-4754-8954-ACA63BCA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ED9B6-E6C6-4439-8F92-35702F6A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919-FD0A-4B73-B9C2-E43E3B93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4CA4D-E9CA-4CCA-A6A8-2C3E3ABF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1572C-6EDB-463D-ACDD-D7F2AC16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0CE97-2752-4C68-8A82-76E19E8A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0D8D5-B347-4AF1-AF73-CD257AF5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70E2B-765B-4308-9B1F-82CD3D62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B3A96-0A7D-4137-B0E9-DC3C4087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C7885-6D42-4B86-9D7B-9CEB2FCE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70679-F89C-45AF-A209-759C4271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4E886-BF84-4A93-A069-567BDE55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BA43D-23C6-44CE-92B2-0D1CEB44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DC16-C5D7-4524-84CE-C45D90BF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AEA5C-ECB9-462B-A748-7BF444D9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3DC02-EE2A-4104-A3FF-94472DD5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9D386-FEB1-447B-B36F-3B876BAE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64BBF-B997-450B-A366-6CB43BFB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686E0-5887-444B-BB43-61956CAC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07EE9-D920-4115-BFCB-0CF6D802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D5F23-7E4C-4714-B258-D4CF2656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34976-C233-4ED6-9553-48B60B67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E5991-91A5-4FEC-B284-861B25D4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C4331-8805-4A13-9EDD-618B0AD1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092-1125-4BD5-989E-665B289D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68757-34ED-4355-92D3-EC1DBD22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BCD24-12ED-4D26-A2B3-E209300C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91E8B-4AF1-4E7F-9702-276CA09D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DED02-94A1-4D0C-A175-25CA204C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C4663-A611-4E29-8545-894094E2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52CBB-EC30-463E-ACD0-FABA1CB2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69920-4E9F-411A-BA82-1FFE2D1F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5B18A-68C3-4E5B-8485-5CC8B18B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21D34-4EEB-4480-8A70-E74DAB34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EED74-3749-4451-B913-B72838AA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70D7-14BB-45A5-A583-2E0393C02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541" name="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549" name=""/>
              <p:cNvSpPr/>
              <p:nvPr/>
            </p:nvSpPr>
            <p:spPr>
              <a:xfrm>
                <a:off x="4854600" y="0"/>
                <a:ext cx="152280" cy="534960"/>
              </a:xfrm>
              <a:custGeom>
                <a:avLst/>
                <a:gdLst/>
                <a:ahLst/>
                <a:rect l="l" t="t" r="r" b="b"/>
                <a:pathLst>
                  <a:path w="96" h="337">
                    <a:moveTo>
                      <a:pt x="95" y="0"/>
                    </a:moveTo>
                    <a:lnTo>
                      <a:pt x="95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70520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55616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0676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25772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106880" y="0"/>
                <a:ext cx="152280" cy="534960"/>
              </a:xfrm>
              <a:custGeom>
                <a:avLst/>
                <a:gdLst/>
                <a:ahLst/>
                <a:rect l="l" t="t" r="r" b="b"/>
                <a:pathLst>
                  <a:path w="96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5" y="336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556" name=""/>
              <p:cNvSpPr/>
              <p:nvPr/>
            </p:nvSpPr>
            <p:spPr>
              <a:xfrm>
                <a:off x="4854600" y="6345360"/>
                <a:ext cx="152280" cy="522000"/>
              </a:xfrm>
              <a:custGeom>
                <a:avLst/>
                <a:gdLst/>
                <a:ahLst/>
                <a:rect l="l" t="t" r="r" b="b"/>
                <a:pathLst>
                  <a:path w="96" h="329">
                    <a:moveTo>
                      <a:pt x="95" y="328"/>
                    </a:moveTo>
                    <a:lnTo>
                      <a:pt x="95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5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70520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55616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0676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25772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106880" y="6345360"/>
                <a:ext cx="152280" cy="522000"/>
              </a:xfrm>
              <a:custGeom>
                <a:avLst/>
                <a:gdLst/>
                <a:ahLst/>
                <a:rect l="l" t="t" r="r" b="b"/>
                <a:pathLst>
                  <a:path w="96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5" y="0"/>
                    </a:lnTo>
                    <a:lnTo>
                      <a:pt x="95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379404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361800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0" y="344160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32655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30891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0" y="291312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570" name=""/>
              <p:cNvSpPr/>
              <p:nvPr/>
            </p:nvSpPr>
            <p:spPr>
              <a:xfrm>
                <a:off x="8659800" y="376884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659800" y="36003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659800" y="343224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659800" y="32637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659800" y="309564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659800" y="292752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8"/>
          </p:nvPr>
        </p:nvSpPr>
        <p:spPr>
          <a:xfrm>
            <a:off x="68580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9"/>
          </p:nvPr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0"/>
          </p:nvPr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2B18-CEFB-469D-BDD5-5E7D02D90D3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18" name="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00cccc"/>
                </a:gs>
                <a:gs pos="50000">
                  <a:srgbClr val="000000"/>
                </a:gs>
                <a:gs pos="100000">
                  <a:srgbClr val="00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627" name=""/>
              <p:cNvSpPr/>
              <p:nvPr/>
            </p:nvSpPr>
            <p:spPr>
              <a:xfrm>
                <a:off x="4257720" y="0"/>
                <a:ext cx="150840" cy="91584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105440" y="0"/>
                <a:ext cx="153720" cy="91584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552920" y="0"/>
                <a:ext cx="150840" cy="91584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400640" y="0"/>
                <a:ext cx="153720" cy="91584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46680" y="0"/>
                <a:ext cx="150840" cy="91584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694400" y="0"/>
                <a:ext cx="153720" cy="91584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634" name=""/>
              <p:cNvSpPr/>
              <p:nvPr/>
            </p:nvSpPr>
            <p:spPr>
              <a:xfrm>
                <a:off x="0" y="29559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27795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0" y="260352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242712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225108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2075040"/>
                <a:ext cx="496800" cy="17748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641" name=""/>
              <p:cNvSpPr/>
              <p:nvPr/>
            </p:nvSpPr>
            <p:spPr>
              <a:xfrm>
                <a:off x="8639280" y="29163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639280" y="274788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639280" y="25797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639280" y="241128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8639280" y="22431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639280" y="207504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3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ftr" idx="3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sldNum" idx="3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B355-A82B-4466-BA32-3DF67E24445A}" type="slidenum">
              <a:rPr b="0" lang="en-AU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6480" y="5760"/>
            <a:ext cx="9129600" cy="6843960"/>
            <a:chOff x="6480" y="5760"/>
            <a:chExt cx="9129600" cy="6843960"/>
          </a:xfrm>
        </p:grpSpPr>
        <p:sp>
          <p:nvSpPr>
            <p:cNvPr id="688" name=""/>
            <p:cNvSpPr/>
            <p:nvPr/>
          </p:nvSpPr>
          <p:spPr>
            <a:xfrm>
              <a:off x="6480" y="6480"/>
              <a:ext cx="314280" cy="6842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817120" y="6480"/>
              <a:ext cx="318960" cy="6842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flipV="1" rot="10800000">
              <a:off x="6480" y="5400"/>
              <a:ext cx="9129600" cy="291960"/>
            </a:xfrm>
            <a:custGeom>
              <a:avLst/>
              <a:gdLst>
                <a:gd name="textAreaLeft" fmla="*/ 921600 w 9129600"/>
                <a:gd name="textAreaRight" fmla="*/ 8208000 w 9129600"/>
                <a:gd name="textAreaTop" fmla="*/ 29160 h 291960"/>
                <a:gd name="textAreaBottom" fmla="*/ 26280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24" y="21600"/>
                  </a:lnTo>
                  <a:lnTo>
                    <a:pt x="776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826480" y="228600"/>
              <a:ext cx="31680" cy="6391440"/>
            </a:xfrm>
            <a:prstGeom prst="rect">
              <a:avLst/>
            </a:pr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57040" y="276120"/>
              <a:ext cx="61920" cy="637704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6480" y="6557400"/>
              <a:ext cx="9129600" cy="291960"/>
            </a:xfrm>
            <a:custGeom>
              <a:avLst/>
              <a:gdLst>
                <a:gd name="textAreaLeft" fmla="*/ 921600 w 9129600"/>
                <a:gd name="textAreaRight" fmla="*/ 8208000 w 9129600"/>
                <a:gd name="textAreaTop" fmla="*/ 29160 h 291960"/>
                <a:gd name="textAreaBottom" fmla="*/ 26280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24" y="21600"/>
                  </a:lnTo>
                  <a:lnTo>
                    <a:pt x="776" y="2160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7040" y="243000"/>
              <a:ext cx="8587080" cy="5220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90520" y="6566760"/>
              <a:ext cx="8553600" cy="25560"/>
            </a:xfrm>
            <a:custGeom>
              <a:avLst/>
              <a:gdLst>
                <a:gd name="textAreaLeft" fmla="*/ 718560 w 8553600"/>
                <a:gd name="textAreaRight" fmla="*/ 7835040 w 8553600"/>
                <a:gd name="textAreaTop" fmla="*/ 2160 h 25560"/>
                <a:gd name="textAreaBottom" fmla="*/ 23400 h 2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483" y="21600"/>
                  </a:lnTo>
                  <a:lnTo>
                    <a:pt x="117" y="21600"/>
                  </a:lnTo>
                  <a:close/>
                </a:path>
              </a:pathLst>
            </a:cu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24840" bIns="-248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3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3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3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C3B1-4A68-4ABC-8F73-CA4281BF9F7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466560" y="971640"/>
            <a:ext cx="7878960" cy="4662360"/>
          </a:xfrm>
          <a:custGeom>
            <a:avLst/>
            <a:gdLst/>
            <a:ahLst/>
            <a:rect l="l" t="t" r="r" b="b"/>
            <a:pathLst>
              <a:path w="4963" h="2937">
                <a:moveTo>
                  <a:pt x="2452" y="267"/>
                </a:moveTo>
                <a:lnTo>
                  <a:pt x="1468" y="233"/>
                </a:lnTo>
                <a:lnTo>
                  <a:pt x="683" y="155"/>
                </a:lnTo>
                <a:lnTo>
                  <a:pt x="178" y="47"/>
                </a:lnTo>
                <a:lnTo>
                  <a:pt x="7" y="2602"/>
                </a:lnTo>
                <a:lnTo>
                  <a:pt x="0" y="2804"/>
                </a:lnTo>
                <a:lnTo>
                  <a:pt x="244" y="2863"/>
                </a:lnTo>
                <a:lnTo>
                  <a:pt x="2358" y="2936"/>
                </a:lnTo>
                <a:lnTo>
                  <a:pt x="4962" y="304"/>
                </a:lnTo>
                <a:lnTo>
                  <a:pt x="4923" y="0"/>
                </a:lnTo>
                <a:lnTo>
                  <a:pt x="4328" y="131"/>
                </a:lnTo>
                <a:lnTo>
                  <a:pt x="3388" y="249"/>
                </a:lnTo>
                <a:lnTo>
                  <a:pt x="2402" y="265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63480" y="1190520"/>
            <a:ext cx="7820280" cy="4480200"/>
          </a:xfrm>
          <a:custGeom>
            <a:avLst/>
            <a:gdLst/>
            <a:ahLst/>
            <a:rect l="l" t="t" r="r" b="b"/>
            <a:pathLst>
              <a:path w="4926" h="2822">
                <a:moveTo>
                  <a:pt x="4925" y="188"/>
                </a:moveTo>
                <a:lnTo>
                  <a:pt x="4056" y="208"/>
                </a:lnTo>
                <a:lnTo>
                  <a:pt x="3401" y="214"/>
                </a:lnTo>
                <a:lnTo>
                  <a:pt x="2557" y="203"/>
                </a:lnTo>
                <a:lnTo>
                  <a:pt x="1820" y="171"/>
                </a:lnTo>
                <a:lnTo>
                  <a:pt x="1379" y="142"/>
                </a:lnTo>
                <a:lnTo>
                  <a:pt x="791" y="102"/>
                </a:lnTo>
                <a:lnTo>
                  <a:pt x="27" y="0"/>
                </a:lnTo>
                <a:lnTo>
                  <a:pt x="0" y="2633"/>
                </a:lnTo>
                <a:lnTo>
                  <a:pt x="365" y="2686"/>
                </a:lnTo>
                <a:lnTo>
                  <a:pt x="1280" y="2760"/>
                </a:lnTo>
                <a:lnTo>
                  <a:pt x="3635" y="2821"/>
                </a:lnTo>
                <a:lnTo>
                  <a:pt x="4504" y="2801"/>
                </a:lnTo>
                <a:lnTo>
                  <a:pt x="4849" y="1885"/>
                </a:lnTo>
                <a:lnTo>
                  <a:pt x="4850" y="1884"/>
                </a:lnTo>
                <a:lnTo>
                  <a:pt x="4925" y="188"/>
                </a:lnTo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6480" y="5760"/>
            <a:ext cx="9129600" cy="6843960"/>
            <a:chOff x="6480" y="5760"/>
            <a:chExt cx="9129600" cy="6843960"/>
          </a:xfrm>
        </p:grpSpPr>
        <p:sp>
          <p:nvSpPr>
            <p:cNvPr id="740" name=""/>
            <p:cNvSpPr/>
            <p:nvPr/>
          </p:nvSpPr>
          <p:spPr>
            <a:xfrm>
              <a:off x="6480" y="6480"/>
              <a:ext cx="314280" cy="6842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817120" y="6480"/>
              <a:ext cx="318960" cy="6842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 rot="10800000">
              <a:off x="6480" y="5400"/>
              <a:ext cx="9129600" cy="291960"/>
            </a:xfrm>
            <a:custGeom>
              <a:avLst/>
              <a:gdLst>
                <a:gd name="textAreaLeft" fmla="*/ 921600 w 9129600"/>
                <a:gd name="textAreaRight" fmla="*/ 8208000 w 9129600"/>
                <a:gd name="textAreaTop" fmla="*/ 29160 h 291960"/>
                <a:gd name="textAreaBottom" fmla="*/ 26280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24" y="21600"/>
                  </a:lnTo>
                  <a:lnTo>
                    <a:pt x="776" y="216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826480" y="228600"/>
              <a:ext cx="31680" cy="6391440"/>
            </a:xfrm>
            <a:prstGeom prst="rect">
              <a:avLst/>
            </a:pr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7040" y="276120"/>
              <a:ext cx="61920" cy="637704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6480" y="6557400"/>
              <a:ext cx="9129600" cy="291960"/>
            </a:xfrm>
            <a:custGeom>
              <a:avLst/>
              <a:gdLst>
                <a:gd name="textAreaLeft" fmla="*/ 921600 w 9129600"/>
                <a:gd name="textAreaRight" fmla="*/ 8208000 w 9129600"/>
                <a:gd name="textAreaTop" fmla="*/ 29160 h 291960"/>
                <a:gd name="textAreaBottom" fmla="*/ 26280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824" y="21600"/>
                  </a:lnTo>
                  <a:lnTo>
                    <a:pt x="776" y="2160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57040" y="243000"/>
              <a:ext cx="8587080" cy="5220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90520" y="6566760"/>
              <a:ext cx="8553600" cy="25560"/>
            </a:xfrm>
            <a:custGeom>
              <a:avLst/>
              <a:gdLst>
                <a:gd name="textAreaLeft" fmla="*/ 718560 w 8553600"/>
                <a:gd name="textAreaRight" fmla="*/ 7835040 w 8553600"/>
                <a:gd name="textAreaTop" fmla="*/ 2160 h 25560"/>
                <a:gd name="textAreaBottom" fmla="*/ 23400 h 2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483" y="21600"/>
                  </a:lnTo>
                  <a:lnTo>
                    <a:pt x="117" y="21600"/>
                  </a:lnTo>
                  <a:close/>
                </a:path>
              </a:pathLst>
            </a:cu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24840" bIns="-248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7780320" y="4352760"/>
            <a:ext cx="534960" cy="1425600"/>
          </a:xfrm>
          <a:custGeom>
            <a:avLst/>
            <a:gdLst/>
            <a:ahLst/>
            <a:rect l="l" t="t" r="r" b="b"/>
            <a:pathLst>
              <a:path w="337" h="898">
                <a:moveTo>
                  <a:pt x="336" y="0"/>
                </a:moveTo>
                <a:lnTo>
                  <a:pt x="11" y="897"/>
                </a:lnTo>
                <a:lnTo>
                  <a:pt x="29" y="809"/>
                </a:lnTo>
                <a:lnTo>
                  <a:pt x="33" y="761"/>
                </a:lnTo>
                <a:lnTo>
                  <a:pt x="38" y="680"/>
                </a:lnTo>
                <a:lnTo>
                  <a:pt x="32" y="556"/>
                </a:lnTo>
                <a:lnTo>
                  <a:pt x="15" y="462"/>
                </a:lnTo>
                <a:lnTo>
                  <a:pt x="0" y="367"/>
                </a:lnTo>
                <a:lnTo>
                  <a:pt x="250" y="144"/>
                </a:lnTo>
                <a:lnTo>
                  <a:pt x="336" y="0"/>
                </a:lnTo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dt" idx="3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ftr" idx="3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5A48-A2B3-44CD-A25D-2ACE17D0D1FB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837720" y="6235560"/>
            <a:ext cx="2449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24760"/>
            <a:ext cx="242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ftr" idx="42"/>
          </p:nvPr>
        </p:nvSpPr>
        <p:spPr>
          <a:xfrm>
            <a:off x="348444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58840" y="500040"/>
            <a:ext cx="142920" cy="1573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06440" y="50652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0" y="0"/>
                </a:moveTo>
                <a:lnTo>
                  <a:pt x="0" y="98"/>
                </a:lnTo>
                <a:lnTo>
                  <a:pt x="17" y="98"/>
                </a:lnTo>
                <a:lnTo>
                  <a:pt x="36" y="102"/>
                </a:lnTo>
                <a:lnTo>
                  <a:pt x="51" y="116"/>
                </a:lnTo>
                <a:lnTo>
                  <a:pt x="58" y="133"/>
                </a:lnTo>
                <a:lnTo>
                  <a:pt x="58" y="150"/>
                </a:lnTo>
                <a:lnTo>
                  <a:pt x="152" y="149"/>
                </a:lnTo>
                <a:lnTo>
                  <a:pt x="152" y="131"/>
                </a:lnTo>
                <a:lnTo>
                  <a:pt x="150" y="114"/>
                </a:lnTo>
                <a:lnTo>
                  <a:pt x="147" y="100"/>
                </a:lnTo>
                <a:lnTo>
                  <a:pt x="143" y="88"/>
                </a:lnTo>
                <a:lnTo>
                  <a:pt x="138" y="70"/>
                </a:lnTo>
                <a:lnTo>
                  <a:pt x="133" y="57"/>
                </a:lnTo>
                <a:lnTo>
                  <a:pt x="125" y="47"/>
                </a:lnTo>
                <a:lnTo>
                  <a:pt x="116" y="35"/>
                </a:lnTo>
                <a:lnTo>
                  <a:pt x="102" y="24"/>
                </a:lnTo>
                <a:lnTo>
                  <a:pt x="88" y="15"/>
                </a:lnTo>
                <a:lnTo>
                  <a:pt x="66" y="7"/>
                </a:lnTo>
                <a:lnTo>
                  <a:pt x="39" y="1"/>
                </a:lnTo>
                <a:lnTo>
                  <a:pt x="21" y="0"/>
                </a:lnTo>
                <a:lnTo>
                  <a:pt x="0" y="0"/>
                </a:lnTo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-10800" y="456840"/>
            <a:ext cx="295200" cy="250920"/>
          </a:xfrm>
          <a:prstGeom prst="triangle">
            <a:avLst>
              <a:gd name="adj" fmla="val 49995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9880" y="68400"/>
            <a:ext cx="289080" cy="272880"/>
          </a:xfrm>
          <a:prstGeom prst="triangle">
            <a:avLst>
              <a:gd name="adj" fmla="val 4999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276120" y="341280"/>
            <a:ext cx="642600" cy="6516720"/>
            <a:chOff x="276120" y="341280"/>
            <a:chExt cx="642600" cy="6516720"/>
          </a:xfrm>
        </p:grpSpPr>
        <p:sp>
          <p:nvSpPr>
            <p:cNvPr id="799" name=""/>
            <p:cNvSpPr/>
            <p:nvPr/>
          </p:nvSpPr>
          <p:spPr>
            <a:xfrm>
              <a:off x="500040" y="744480"/>
              <a:ext cx="149400" cy="61135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276120" y="743040"/>
              <a:ext cx="642600" cy="6114960"/>
              <a:chOff x="276120" y="743040"/>
              <a:chExt cx="642600" cy="6114960"/>
            </a:xfrm>
          </p:grpSpPr>
          <p:grpSp>
            <p:nvGrpSpPr>
              <p:cNvPr id="801" name=""/>
              <p:cNvGrpSpPr/>
              <p:nvPr/>
            </p:nvGrpSpPr>
            <p:grpSpPr>
              <a:xfrm>
                <a:off x="277920" y="743040"/>
                <a:ext cx="640800" cy="307800"/>
                <a:chOff x="277920" y="743040"/>
                <a:chExt cx="640800" cy="30780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277920" y="814320"/>
                  <a:ext cx="245880" cy="236520"/>
                </a:xfrm>
                <a:custGeom>
                  <a:avLst/>
                  <a:gdLst/>
                  <a:ahLst/>
                  <a:rect l="l" t="t" r="r" b="b"/>
                  <a:pathLst>
                    <a:path w="155" h="149">
                      <a:moveTo>
                        <a:pt x="154" y="0"/>
                      </a:moveTo>
                      <a:lnTo>
                        <a:pt x="154" y="97"/>
                      </a:lnTo>
                      <a:lnTo>
                        <a:pt x="136" y="97"/>
                      </a:lnTo>
                      <a:lnTo>
                        <a:pt x="117" y="101"/>
                      </a:lnTo>
                      <a:lnTo>
                        <a:pt x="102" y="115"/>
                      </a:lnTo>
                      <a:lnTo>
                        <a:pt x="94" y="132"/>
                      </a:lnTo>
                      <a:lnTo>
                        <a:pt x="94" y="148"/>
                      </a:lnTo>
                      <a:lnTo>
                        <a:pt x="0" y="148"/>
                      </a:lnTo>
                      <a:lnTo>
                        <a:pt x="0" y="129"/>
                      </a:lnTo>
                      <a:lnTo>
                        <a:pt x="1" y="112"/>
                      </a:lnTo>
                      <a:lnTo>
                        <a:pt x="4" y="99"/>
                      </a:lnTo>
                      <a:lnTo>
                        <a:pt x="8" y="87"/>
                      </a:lnTo>
                      <a:lnTo>
                        <a:pt x="13" y="70"/>
                      </a:lnTo>
                      <a:lnTo>
                        <a:pt x="18" y="57"/>
                      </a:lnTo>
                      <a:lnTo>
                        <a:pt x="26" y="47"/>
                      </a:lnTo>
                      <a:lnTo>
                        <a:pt x="36" y="35"/>
                      </a:lnTo>
                      <a:lnTo>
                        <a:pt x="49" y="24"/>
                      </a:lnTo>
                      <a:lnTo>
                        <a:pt x="64" y="15"/>
                      </a:lnTo>
                      <a:lnTo>
                        <a:pt x="86" y="7"/>
                      </a:lnTo>
                      <a:lnTo>
                        <a:pt x="113" y="1"/>
                      </a:lnTo>
                      <a:lnTo>
                        <a:pt x="131" y="0"/>
                      </a:lnTo>
                      <a:lnTo>
                        <a:pt x="154" y="0"/>
                      </a:lnTo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 rot="5400000">
                  <a:off x="643680" y="763560"/>
                  <a:ext cx="295200" cy="253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22360" y="814320"/>
                  <a:ext cx="142920" cy="15552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5" name=""/>
              <p:cNvSpPr/>
              <p:nvPr/>
            </p:nvSpPr>
            <p:spPr>
              <a:xfrm>
                <a:off x="276120" y="1042920"/>
                <a:ext cx="142920" cy="581508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385920" y="341280"/>
              <a:ext cx="144360" cy="65167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dt" idx="43"/>
          </p:nvPr>
        </p:nvSpPr>
        <p:spPr>
          <a:xfrm>
            <a:off x="344160" y="6035760"/>
            <a:ext cx="2475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ftr" idx="44"/>
          </p:nvPr>
        </p:nvSpPr>
        <p:spPr>
          <a:xfrm>
            <a:off x="2895480" y="603576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sldNum" idx="45"/>
          </p:nvPr>
        </p:nvSpPr>
        <p:spPr>
          <a:xfrm>
            <a:off x="6629400" y="6035760"/>
            <a:ext cx="21700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0" y="-6480"/>
            <a:ext cx="9142560" cy="6856560"/>
            <a:chOff x="0" y="-6480"/>
            <a:chExt cx="9142560" cy="6856560"/>
          </a:xfrm>
        </p:grpSpPr>
        <p:grpSp>
          <p:nvGrpSpPr>
            <p:cNvPr id="847" name=""/>
            <p:cNvGrpSpPr/>
            <p:nvPr/>
          </p:nvGrpSpPr>
          <p:grpSpPr>
            <a:xfrm>
              <a:off x="52560" y="-6480"/>
              <a:ext cx="520560" cy="6235920"/>
              <a:chOff x="52560" y="-6480"/>
              <a:chExt cx="520560" cy="6235920"/>
            </a:xfrm>
          </p:grpSpPr>
          <p:sp>
            <p:nvSpPr>
              <p:cNvPr id="848" name=""/>
              <p:cNvSpPr/>
              <p:nvPr/>
            </p:nvSpPr>
            <p:spPr>
              <a:xfrm>
                <a:off x="52560" y="174600"/>
                <a:ext cx="168120" cy="605484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"/>
              <p:cNvGrpSpPr/>
              <p:nvPr/>
            </p:nvGrpSpPr>
            <p:grpSpPr>
              <a:xfrm>
                <a:off x="65160" y="-6480"/>
                <a:ext cx="507960" cy="325440"/>
                <a:chOff x="65160" y="-6480"/>
                <a:chExt cx="507960" cy="32544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65160" y="76320"/>
                  <a:ext cx="179280" cy="169920"/>
                </a:xfrm>
                <a:prstGeom prst="ellipse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165240" y="-6480"/>
                  <a:ext cx="407880" cy="325440"/>
                </a:xfrm>
                <a:prstGeom prst="rightArrow">
                  <a:avLst>
                    <a:gd name="adj1" fmla="val 50000"/>
                    <a:gd name="adj2" fmla="val 62671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"/>
            <p:cNvGrpSpPr/>
            <p:nvPr/>
          </p:nvGrpSpPr>
          <p:grpSpPr>
            <a:xfrm>
              <a:off x="652320" y="69840"/>
              <a:ext cx="8490240" cy="511200"/>
              <a:chOff x="652320" y="69840"/>
              <a:chExt cx="8490240" cy="511200"/>
            </a:xfrm>
          </p:grpSpPr>
          <p:sp>
            <p:nvSpPr>
              <p:cNvPr id="853" name=""/>
              <p:cNvSpPr/>
              <p:nvPr/>
            </p:nvSpPr>
            <p:spPr>
              <a:xfrm>
                <a:off x="652320" y="69840"/>
                <a:ext cx="8344080" cy="1634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00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8831160" y="71280"/>
                <a:ext cx="311400" cy="509760"/>
                <a:chOff x="8831160" y="71280"/>
                <a:chExt cx="311400" cy="50976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8901000" y="71280"/>
                  <a:ext cx="165240" cy="1796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8831160" y="169920"/>
                  <a:ext cx="311400" cy="411120"/>
                </a:xfrm>
                <a:prstGeom prst="downArrow">
                  <a:avLst>
                    <a:gd name="adj1" fmla="val 50000"/>
                    <a:gd name="adj2" fmla="val 66018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7" name=""/>
            <p:cNvGrpSpPr/>
            <p:nvPr/>
          </p:nvGrpSpPr>
          <p:grpSpPr>
            <a:xfrm>
              <a:off x="0" y="6283440"/>
              <a:ext cx="8488440" cy="512640"/>
              <a:chOff x="0" y="6283440"/>
              <a:chExt cx="8488440" cy="512640"/>
            </a:xfrm>
          </p:grpSpPr>
          <p:sp>
            <p:nvSpPr>
              <p:cNvPr id="858" name=""/>
              <p:cNvSpPr/>
              <p:nvPr/>
            </p:nvSpPr>
            <p:spPr>
              <a:xfrm>
                <a:off x="149400" y="6632640"/>
                <a:ext cx="8339040" cy="1634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00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0" y="6283440"/>
                <a:ext cx="309600" cy="511200"/>
                <a:chOff x="0" y="6283440"/>
                <a:chExt cx="309600" cy="5112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76320" y="6613560"/>
                  <a:ext cx="164880" cy="181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0" y="6283440"/>
                  <a:ext cx="309600" cy="411120"/>
                </a:xfrm>
                <a:prstGeom prst="upArrow">
                  <a:avLst>
                    <a:gd name="adj1" fmla="val 50000"/>
                    <a:gd name="adj2" fmla="val 66389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2" name=""/>
            <p:cNvGrpSpPr/>
            <p:nvPr/>
          </p:nvGrpSpPr>
          <p:grpSpPr>
            <a:xfrm>
              <a:off x="8569440" y="636480"/>
              <a:ext cx="507960" cy="6213600"/>
              <a:chOff x="8569440" y="636480"/>
              <a:chExt cx="507960" cy="6213600"/>
            </a:xfrm>
          </p:grpSpPr>
          <p:sp>
            <p:nvSpPr>
              <p:cNvPr id="863" name=""/>
              <p:cNvSpPr/>
              <p:nvPr/>
            </p:nvSpPr>
            <p:spPr>
              <a:xfrm>
                <a:off x="8908920" y="636480"/>
                <a:ext cx="168480" cy="60325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4" name=""/>
              <p:cNvGrpSpPr/>
              <p:nvPr/>
            </p:nvGrpSpPr>
            <p:grpSpPr>
              <a:xfrm>
                <a:off x="8569440" y="6526080"/>
                <a:ext cx="507960" cy="324000"/>
                <a:chOff x="8569440" y="6526080"/>
                <a:chExt cx="507960" cy="32400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8897760" y="6599160"/>
                  <a:ext cx="179640" cy="16848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8569440" y="6526080"/>
                  <a:ext cx="407880" cy="324000"/>
                </a:xfrm>
                <a:prstGeom prst="leftArrow">
                  <a:avLst>
                    <a:gd name="adj1" fmla="val 50000"/>
                    <a:gd name="adj2" fmla="val 62938"/>
                  </a:avLst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Num" idx="4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9881-7DA0-4FFC-9FE9-368B6A8C4089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0" y="0"/>
            <a:ext cx="9132840" cy="1638360"/>
            <a:chOff x="0" y="0"/>
            <a:chExt cx="9132840" cy="1638360"/>
          </a:xfrm>
        </p:grpSpPr>
        <p:sp>
          <p:nvSpPr>
            <p:cNvPr id="906" name=""/>
            <p:cNvSpPr/>
            <p:nvPr/>
          </p:nvSpPr>
          <p:spPr>
            <a:xfrm>
              <a:off x="0" y="0"/>
              <a:ext cx="9132840" cy="15429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0" y="1638360"/>
              <a:ext cx="913284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9" name="PlaceHolder 2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dt" idx="4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0" y="0"/>
            <a:ext cx="9132840" cy="3429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680" y="3429000"/>
            <a:ext cx="913284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9360" y="3543480"/>
            <a:ext cx="91332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50C5-ED11-4654-A7DB-C1355EB797F7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2" name=""/>
          <p:cNvGrpSpPr/>
          <p:nvPr/>
        </p:nvGrpSpPr>
        <p:grpSpPr>
          <a:xfrm>
            <a:off x="0" y="0"/>
            <a:ext cx="2048040" cy="6858000"/>
            <a:chOff x="0" y="0"/>
            <a:chExt cx="2048040" cy="6858000"/>
          </a:xfrm>
        </p:grpSpPr>
        <p:sp>
          <p:nvSpPr>
            <p:cNvPr id="993" name=""/>
            <p:cNvSpPr/>
            <p:nvPr/>
          </p:nvSpPr>
          <p:spPr>
            <a:xfrm>
              <a:off x="1666800" y="0"/>
              <a:ext cx="381240" cy="6856560"/>
            </a:xfrm>
            <a:prstGeom prst="rect">
              <a:avLst/>
            </a:prstGeom>
            <a:gradFill rotWithShape="0">
              <a:gsLst>
                <a:gs pos="0">
                  <a:srgbClr val="990066"/>
                </a:gs>
                <a:gs pos="100000">
                  <a:srgbClr val="4e003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6635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52"/>
          </p:nvPr>
        </p:nvSpPr>
        <p:spPr>
          <a:xfrm>
            <a:off x="75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 type="sldNum" idx="54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05B1-0222-42A6-85FF-9D6FD87FAB3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"/>
          <p:cNvGrpSpPr/>
          <p:nvPr/>
        </p:nvGrpSpPr>
        <p:grpSpPr>
          <a:xfrm>
            <a:off x="0" y="0"/>
            <a:ext cx="2048040" cy="6858000"/>
            <a:chOff x="0" y="0"/>
            <a:chExt cx="2048040" cy="6858000"/>
          </a:xfrm>
        </p:grpSpPr>
        <p:sp>
          <p:nvSpPr>
            <p:cNvPr id="1037" name=""/>
            <p:cNvSpPr/>
            <p:nvPr/>
          </p:nvSpPr>
          <p:spPr>
            <a:xfrm>
              <a:off x="1666800" y="0"/>
              <a:ext cx="381240" cy="6856560"/>
            </a:xfrm>
            <a:prstGeom prst="rect">
              <a:avLst/>
            </a:prstGeom>
            <a:gradFill rotWithShape="0">
              <a:gsLst>
                <a:gs pos="0">
                  <a:srgbClr val="990066"/>
                </a:gs>
                <a:gs pos="100000">
                  <a:srgbClr val="4e003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6635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dt" idx="55"/>
          </p:nvPr>
        </p:nvSpPr>
        <p:spPr>
          <a:xfrm>
            <a:off x="75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 type="sldNum" idx="57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55B7-6B80-476D-82BB-56994EAD7E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563A-2B76-4DAF-A0D0-03AB7AB2526C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080" name="" descr=""/>
            <p:cNvPicPr/>
            <p:nvPr/>
          </p:nvPicPr>
          <p:blipFill>
            <a:blip r:embed="rId2"/>
            <a:stretch/>
          </p:blipFill>
          <p:spPr>
            <a:xfrm>
              <a:off x="7821720" y="0"/>
              <a:ext cx="132084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0" y="609480"/>
              <a:ext cx="9142560" cy="114300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31B0-BA41-4E26-9D0E-E625E1F554EB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pic>
            <p:nvPicPr>
              <p:cNvPr id="112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20840" cy="68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6" name=""/>
              <p:cNvSpPr/>
              <p:nvPr/>
            </p:nvSpPr>
            <p:spPr>
              <a:xfrm>
                <a:off x="0" y="1828800"/>
                <a:ext cx="9142560" cy="190512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27" name="" descr=""/>
            <p:cNvPicPr/>
            <p:nvPr/>
          </p:nvPicPr>
          <p:blipFill>
            <a:blip r:embed="rId3"/>
            <a:stretch/>
          </p:blipFill>
          <p:spPr>
            <a:xfrm>
              <a:off x="457200" y="1327320"/>
              <a:ext cx="1828800" cy="191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743F-C794-441D-96D1-A56FAD252710}" type="slidenum">
              <a:rPr b="0" lang="en-AU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169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dt" idx="6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 type="ftr" idx="6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 type="sldNum" idx="6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E567-DA19-453D-A290-71E291A46C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216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67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ftr" idx="68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sldNum" idx="69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E0E2-DB0B-4A04-9CA0-B646E736C8A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7467480" y="228600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0" y="2871720"/>
            <a:ext cx="9172440" cy="4008600"/>
            <a:chOff x="0" y="2871720"/>
            <a:chExt cx="9172440" cy="4008600"/>
          </a:xfrm>
        </p:grpSpPr>
        <p:sp>
          <p:nvSpPr>
            <p:cNvPr id="1263" name=""/>
            <p:cNvSpPr/>
            <p:nvPr/>
          </p:nvSpPr>
          <p:spPr>
            <a:xfrm>
              <a:off x="0" y="5194440"/>
              <a:ext cx="9172440" cy="1685880"/>
            </a:xfrm>
            <a:custGeom>
              <a:avLst/>
              <a:gdLst/>
              <a:ahLst/>
              <a:rect l="l" t="t" r="r" b="b"/>
              <a:pathLst>
                <a:path w="5778" h="1062">
                  <a:moveTo>
                    <a:pt x="5777" y="1061"/>
                  </a:moveTo>
                  <a:lnTo>
                    <a:pt x="0" y="1061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1"/>
                  </a:lnTo>
                  <a:lnTo>
                    <a:pt x="342" y="178"/>
                  </a:lnTo>
                  <a:lnTo>
                    <a:pt x="489" y="259"/>
                  </a:lnTo>
                  <a:lnTo>
                    <a:pt x="665" y="245"/>
                  </a:lnTo>
                  <a:lnTo>
                    <a:pt x="760" y="274"/>
                  </a:lnTo>
                  <a:lnTo>
                    <a:pt x="877" y="335"/>
                  </a:lnTo>
                  <a:lnTo>
                    <a:pt x="988" y="378"/>
                  </a:lnTo>
                  <a:lnTo>
                    <a:pt x="1047" y="451"/>
                  </a:lnTo>
                  <a:lnTo>
                    <a:pt x="1091" y="443"/>
                  </a:lnTo>
                  <a:lnTo>
                    <a:pt x="1113" y="443"/>
                  </a:lnTo>
                  <a:lnTo>
                    <a:pt x="1135" y="434"/>
                  </a:lnTo>
                  <a:lnTo>
                    <a:pt x="1230" y="488"/>
                  </a:lnTo>
                  <a:lnTo>
                    <a:pt x="1274" y="506"/>
                  </a:lnTo>
                  <a:lnTo>
                    <a:pt x="1296" y="506"/>
                  </a:lnTo>
                  <a:lnTo>
                    <a:pt x="1318" y="506"/>
                  </a:lnTo>
                  <a:lnTo>
                    <a:pt x="1340" y="533"/>
                  </a:lnTo>
                  <a:lnTo>
                    <a:pt x="1384" y="560"/>
                  </a:lnTo>
                  <a:lnTo>
                    <a:pt x="1406" y="570"/>
                  </a:lnTo>
                  <a:lnTo>
                    <a:pt x="1465" y="634"/>
                  </a:lnTo>
                  <a:lnTo>
                    <a:pt x="1516" y="642"/>
                  </a:lnTo>
                  <a:lnTo>
                    <a:pt x="1589" y="608"/>
                  </a:lnTo>
                  <a:lnTo>
                    <a:pt x="1649" y="585"/>
                  </a:lnTo>
                  <a:lnTo>
                    <a:pt x="1733" y="611"/>
                  </a:lnTo>
                  <a:lnTo>
                    <a:pt x="1744" y="661"/>
                  </a:lnTo>
                  <a:lnTo>
                    <a:pt x="1766" y="651"/>
                  </a:lnTo>
                  <a:lnTo>
                    <a:pt x="1788" y="651"/>
                  </a:lnTo>
                  <a:lnTo>
                    <a:pt x="1817" y="642"/>
                  </a:lnTo>
                  <a:lnTo>
                    <a:pt x="1839" y="634"/>
                  </a:lnTo>
                  <a:lnTo>
                    <a:pt x="1957" y="516"/>
                  </a:lnTo>
                  <a:lnTo>
                    <a:pt x="2070" y="461"/>
                  </a:lnTo>
                  <a:lnTo>
                    <a:pt x="2070" y="461"/>
                  </a:lnTo>
                  <a:lnTo>
                    <a:pt x="2132" y="490"/>
                  </a:lnTo>
                  <a:lnTo>
                    <a:pt x="2169" y="497"/>
                  </a:lnTo>
                  <a:lnTo>
                    <a:pt x="2206" y="482"/>
                  </a:lnTo>
                  <a:lnTo>
                    <a:pt x="2265" y="475"/>
                  </a:lnTo>
                  <a:lnTo>
                    <a:pt x="2353" y="490"/>
                  </a:lnTo>
                  <a:lnTo>
                    <a:pt x="2419" y="505"/>
                  </a:lnTo>
                  <a:lnTo>
                    <a:pt x="2463" y="505"/>
                  </a:lnTo>
                  <a:lnTo>
                    <a:pt x="2503" y="511"/>
                  </a:lnTo>
                  <a:lnTo>
                    <a:pt x="2554" y="568"/>
                  </a:lnTo>
                  <a:lnTo>
                    <a:pt x="2542" y="624"/>
                  </a:lnTo>
                  <a:lnTo>
                    <a:pt x="2603" y="640"/>
                  </a:lnTo>
                  <a:lnTo>
                    <a:pt x="2639" y="634"/>
                  </a:lnTo>
                  <a:lnTo>
                    <a:pt x="2696" y="611"/>
                  </a:lnTo>
                  <a:lnTo>
                    <a:pt x="2699" y="580"/>
                  </a:lnTo>
                  <a:lnTo>
                    <a:pt x="2744" y="562"/>
                  </a:lnTo>
                  <a:lnTo>
                    <a:pt x="2792" y="562"/>
                  </a:lnTo>
                  <a:lnTo>
                    <a:pt x="2825" y="589"/>
                  </a:lnTo>
                  <a:lnTo>
                    <a:pt x="2876" y="580"/>
                  </a:lnTo>
                  <a:lnTo>
                    <a:pt x="2889" y="562"/>
                  </a:lnTo>
                  <a:lnTo>
                    <a:pt x="2985" y="564"/>
                  </a:lnTo>
                  <a:lnTo>
                    <a:pt x="3015" y="558"/>
                  </a:lnTo>
                  <a:lnTo>
                    <a:pt x="3060" y="555"/>
                  </a:lnTo>
                  <a:lnTo>
                    <a:pt x="3138" y="543"/>
                  </a:lnTo>
                  <a:lnTo>
                    <a:pt x="3159" y="546"/>
                  </a:lnTo>
                  <a:lnTo>
                    <a:pt x="3270" y="543"/>
                  </a:lnTo>
                  <a:lnTo>
                    <a:pt x="3292" y="524"/>
                  </a:lnTo>
                  <a:lnTo>
                    <a:pt x="3307" y="497"/>
                  </a:lnTo>
                  <a:lnTo>
                    <a:pt x="3322" y="470"/>
                  </a:lnTo>
                  <a:lnTo>
                    <a:pt x="3344" y="451"/>
                  </a:lnTo>
                  <a:lnTo>
                    <a:pt x="3336" y="452"/>
                  </a:lnTo>
                  <a:lnTo>
                    <a:pt x="3395" y="423"/>
                  </a:lnTo>
                  <a:lnTo>
                    <a:pt x="3453" y="363"/>
                  </a:lnTo>
                  <a:lnTo>
                    <a:pt x="3453" y="379"/>
                  </a:lnTo>
                  <a:lnTo>
                    <a:pt x="3483" y="341"/>
                  </a:lnTo>
                  <a:lnTo>
                    <a:pt x="3645" y="363"/>
                  </a:lnTo>
                  <a:lnTo>
                    <a:pt x="3803" y="411"/>
                  </a:lnTo>
                  <a:lnTo>
                    <a:pt x="3948" y="461"/>
                  </a:lnTo>
                  <a:lnTo>
                    <a:pt x="4077" y="443"/>
                  </a:lnTo>
                  <a:lnTo>
                    <a:pt x="4106" y="443"/>
                  </a:lnTo>
                  <a:lnTo>
                    <a:pt x="4136" y="443"/>
                  </a:lnTo>
                  <a:lnTo>
                    <a:pt x="4158" y="434"/>
                  </a:lnTo>
                  <a:lnTo>
                    <a:pt x="4181" y="425"/>
                  </a:lnTo>
                  <a:lnTo>
                    <a:pt x="4203" y="415"/>
                  </a:lnTo>
                  <a:lnTo>
                    <a:pt x="4224" y="398"/>
                  </a:lnTo>
                  <a:lnTo>
                    <a:pt x="4268" y="425"/>
                  </a:lnTo>
                  <a:lnTo>
                    <a:pt x="4290" y="415"/>
                  </a:lnTo>
                  <a:lnTo>
                    <a:pt x="4356" y="388"/>
                  </a:lnTo>
                  <a:lnTo>
                    <a:pt x="4400" y="379"/>
                  </a:lnTo>
                  <a:lnTo>
                    <a:pt x="4451" y="388"/>
                  </a:lnTo>
                  <a:lnTo>
                    <a:pt x="4473" y="398"/>
                  </a:lnTo>
                  <a:lnTo>
                    <a:pt x="4518" y="505"/>
                  </a:lnTo>
                  <a:lnTo>
                    <a:pt x="4621" y="527"/>
                  </a:lnTo>
                  <a:lnTo>
                    <a:pt x="4745" y="497"/>
                  </a:lnTo>
                  <a:lnTo>
                    <a:pt x="4951" y="393"/>
                  </a:lnTo>
                  <a:lnTo>
                    <a:pt x="5060" y="408"/>
                  </a:lnTo>
                  <a:lnTo>
                    <a:pt x="5157" y="482"/>
                  </a:lnTo>
                  <a:lnTo>
                    <a:pt x="5237" y="488"/>
                  </a:lnTo>
                  <a:lnTo>
                    <a:pt x="5303" y="511"/>
                  </a:lnTo>
                  <a:lnTo>
                    <a:pt x="5347" y="452"/>
                  </a:lnTo>
                  <a:lnTo>
                    <a:pt x="5420" y="452"/>
                  </a:lnTo>
                  <a:lnTo>
                    <a:pt x="5479" y="460"/>
                  </a:lnTo>
                  <a:lnTo>
                    <a:pt x="5633" y="423"/>
                  </a:lnTo>
                  <a:lnTo>
                    <a:pt x="5772" y="4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0" y="2871720"/>
              <a:ext cx="1089000" cy="2754360"/>
            </a:xfrm>
            <a:custGeom>
              <a:avLst/>
              <a:gdLst/>
              <a:ahLst/>
              <a:rect l="l" t="t" r="r" b="b"/>
              <a:pathLst>
                <a:path w="686" h="1735">
                  <a:moveTo>
                    <a:pt x="0" y="219"/>
                  </a:moveTo>
                  <a:lnTo>
                    <a:pt x="20" y="190"/>
                  </a:lnTo>
                  <a:lnTo>
                    <a:pt x="0" y="219"/>
                  </a:lnTo>
                  <a:lnTo>
                    <a:pt x="34" y="219"/>
                  </a:lnTo>
                  <a:lnTo>
                    <a:pt x="56" y="234"/>
                  </a:lnTo>
                  <a:lnTo>
                    <a:pt x="63" y="256"/>
                  </a:lnTo>
                  <a:lnTo>
                    <a:pt x="85" y="271"/>
                  </a:lnTo>
                  <a:lnTo>
                    <a:pt x="85" y="249"/>
                  </a:lnTo>
                  <a:lnTo>
                    <a:pt x="63" y="227"/>
                  </a:lnTo>
                  <a:lnTo>
                    <a:pt x="49" y="205"/>
                  </a:lnTo>
                  <a:lnTo>
                    <a:pt x="49" y="183"/>
                  </a:lnTo>
                  <a:lnTo>
                    <a:pt x="71" y="190"/>
                  </a:lnTo>
                  <a:lnTo>
                    <a:pt x="93" y="205"/>
                  </a:lnTo>
                  <a:lnTo>
                    <a:pt x="93" y="183"/>
                  </a:lnTo>
                  <a:lnTo>
                    <a:pt x="71" y="168"/>
                  </a:lnTo>
                  <a:lnTo>
                    <a:pt x="63" y="146"/>
                  </a:lnTo>
                  <a:lnTo>
                    <a:pt x="63" y="124"/>
                  </a:lnTo>
                  <a:lnTo>
                    <a:pt x="63" y="102"/>
                  </a:lnTo>
                  <a:lnTo>
                    <a:pt x="41" y="80"/>
                  </a:lnTo>
                  <a:lnTo>
                    <a:pt x="63" y="95"/>
                  </a:lnTo>
                  <a:lnTo>
                    <a:pt x="85" y="110"/>
                  </a:lnTo>
                  <a:lnTo>
                    <a:pt x="100" y="131"/>
                  </a:lnTo>
                  <a:lnTo>
                    <a:pt x="107" y="110"/>
                  </a:lnTo>
                  <a:lnTo>
                    <a:pt x="107" y="88"/>
                  </a:lnTo>
                  <a:lnTo>
                    <a:pt x="107" y="66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6"/>
                  </a:lnTo>
                  <a:lnTo>
                    <a:pt x="122" y="88"/>
                  </a:lnTo>
                  <a:lnTo>
                    <a:pt x="137" y="110"/>
                  </a:lnTo>
                  <a:lnTo>
                    <a:pt x="159" y="102"/>
                  </a:lnTo>
                  <a:lnTo>
                    <a:pt x="173" y="80"/>
                  </a:lnTo>
                  <a:lnTo>
                    <a:pt x="195" y="66"/>
                  </a:lnTo>
                  <a:lnTo>
                    <a:pt x="180" y="88"/>
                  </a:lnTo>
                  <a:lnTo>
                    <a:pt x="166" y="110"/>
                  </a:lnTo>
                  <a:lnTo>
                    <a:pt x="159" y="131"/>
                  </a:lnTo>
                  <a:lnTo>
                    <a:pt x="144" y="153"/>
                  </a:lnTo>
                  <a:lnTo>
                    <a:pt x="166" y="161"/>
                  </a:lnTo>
                  <a:lnTo>
                    <a:pt x="180" y="139"/>
                  </a:lnTo>
                  <a:lnTo>
                    <a:pt x="202" y="139"/>
                  </a:lnTo>
                  <a:lnTo>
                    <a:pt x="224" y="131"/>
                  </a:lnTo>
                  <a:lnTo>
                    <a:pt x="210" y="153"/>
                  </a:lnTo>
                  <a:lnTo>
                    <a:pt x="188" y="175"/>
                  </a:lnTo>
                  <a:lnTo>
                    <a:pt x="166" y="197"/>
                  </a:lnTo>
                  <a:lnTo>
                    <a:pt x="144" y="219"/>
                  </a:lnTo>
                  <a:lnTo>
                    <a:pt x="173" y="227"/>
                  </a:lnTo>
                  <a:lnTo>
                    <a:pt x="195" y="219"/>
                  </a:lnTo>
                  <a:lnTo>
                    <a:pt x="217" y="212"/>
                  </a:lnTo>
                  <a:lnTo>
                    <a:pt x="239" y="212"/>
                  </a:lnTo>
                  <a:lnTo>
                    <a:pt x="261" y="205"/>
                  </a:lnTo>
                  <a:lnTo>
                    <a:pt x="290" y="205"/>
                  </a:lnTo>
                  <a:lnTo>
                    <a:pt x="268" y="219"/>
                  </a:lnTo>
                  <a:lnTo>
                    <a:pt x="246" y="227"/>
                  </a:lnTo>
                  <a:lnTo>
                    <a:pt x="232" y="249"/>
                  </a:lnTo>
                  <a:lnTo>
                    <a:pt x="210" y="271"/>
                  </a:lnTo>
                  <a:lnTo>
                    <a:pt x="188" y="278"/>
                  </a:lnTo>
                  <a:lnTo>
                    <a:pt x="210" y="278"/>
                  </a:lnTo>
                  <a:lnTo>
                    <a:pt x="232" y="271"/>
                  </a:lnTo>
                  <a:lnTo>
                    <a:pt x="254" y="263"/>
                  </a:lnTo>
                  <a:lnTo>
                    <a:pt x="283" y="256"/>
                  </a:lnTo>
                  <a:lnTo>
                    <a:pt x="305" y="256"/>
                  </a:lnTo>
                  <a:lnTo>
                    <a:pt x="290" y="278"/>
                  </a:lnTo>
                  <a:lnTo>
                    <a:pt x="268" y="285"/>
                  </a:lnTo>
                  <a:lnTo>
                    <a:pt x="246" y="307"/>
                  </a:lnTo>
                  <a:lnTo>
                    <a:pt x="224" y="314"/>
                  </a:lnTo>
                  <a:lnTo>
                    <a:pt x="202" y="329"/>
                  </a:lnTo>
                  <a:lnTo>
                    <a:pt x="180" y="336"/>
                  </a:lnTo>
                  <a:lnTo>
                    <a:pt x="166" y="358"/>
                  </a:lnTo>
                  <a:lnTo>
                    <a:pt x="202" y="351"/>
                  </a:lnTo>
                  <a:lnTo>
                    <a:pt x="232" y="344"/>
                  </a:lnTo>
                  <a:lnTo>
                    <a:pt x="261" y="344"/>
                  </a:lnTo>
                  <a:lnTo>
                    <a:pt x="239" y="366"/>
                  </a:lnTo>
                  <a:lnTo>
                    <a:pt x="217" y="380"/>
                  </a:lnTo>
                  <a:lnTo>
                    <a:pt x="195" y="395"/>
                  </a:lnTo>
                  <a:lnTo>
                    <a:pt x="217" y="402"/>
                  </a:lnTo>
                  <a:lnTo>
                    <a:pt x="239" y="402"/>
                  </a:lnTo>
                  <a:lnTo>
                    <a:pt x="261" y="402"/>
                  </a:lnTo>
                  <a:lnTo>
                    <a:pt x="283" y="395"/>
                  </a:lnTo>
                  <a:lnTo>
                    <a:pt x="305" y="388"/>
                  </a:lnTo>
                  <a:lnTo>
                    <a:pt x="327" y="380"/>
                  </a:lnTo>
                  <a:lnTo>
                    <a:pt x="349" y="373"/>
                  </a:lnTo>
                  <a:lnTo>
                    <a:pt x="341" y="395"/>
                  </a:lnTo>
                  <a:lnTo>
                    <a:pt x="319" y="410"/>
                  </a:lnTo>
                  <a:lnTo>
                    <a:pt x="298" y="424"/>
                  </a:lnTo>
                  <a:lnTo>
                    <a:pt x="276" y="431"/>
                  </a:lnTo>
                  <a:lnTo>
                    <a:pt x="254" y="439"/>
                  </a:lnTo>
                  <a:lnTo>
                    <a:pt x="232" y="446"/>
                  </a:lnTo>
                  <a:lnTo>
                    <a:pt x="210" y="461"/>
                  </a:lnTo>
                  <a:lnTo>
                    <a:pt x="188" y="468"/>
                  </a:lnTo>
                  <a:lnTo>
                    <a:pt x="166" y="490"/>
                  </a:lnTo>
                  <a:lnTo>
                    <a:pt x="188" y="490"/>
                  </a:lnTo>
                  <a:lnTo>
                    <a:pt x="210" y="483"/>
                  </a:lnTo>
                  <a:lnTo>
                    <a:pt x="232" y="475"/>
                  </a:lnTo>
                  <a:lnTo>
                    <a:pt x="254" y="475"/>
                  </a:lnTo>
                  <a:lnTo>
                    <a:pt x="276" y="475"/>
                  </a:lnTo>
                  <a:lnTo>
                    <a:pt x="246" y="497"/>
                  </a:lnTo>
                  <a:lnTo>
                    <a:pt x="224" y="519"/>
                  </a:lnTo>
                  <a:lnTo>
                    <a:pt x="202" y="534"/>
                  </a:lnTo>
                  <a:lnTo>
                    <a:pt x="180" y="541"/>
                  </a:lnTo>
                  <a:lnTo>
                    <a:pt x="202" y="541"/>
                  </a:lnTo>
                  <a:lnTo>
                    <a:pt x="224" y="549"/>
                  </a:lnTo>
                  <a:lnTo>
                    <a:pt x="232" y="571"/>
                  </a:lnTo>
                  <a:lnTo>
                    <a:pt x="217" y="592"/>
                  </a:lnTo>
                  <a:lnTo>
                    <a:pt x="195" y="614"/>
                  </a:lnTo>
                  <a:lnTo>
                    <a:pt x="173" y="629"/>
                  </a:lnTo>
                  <a:lnTo>
                    <a:pt x="195" y="636"/>
                  </a:lnTo>
                  <a:lnTo>
                    <a:pt x="217" y="636"/>
                  </a:lnTo>
                  <a:lnTo>
                    <a:pt x="239" y="629"/>
                  </a:lnTo>
                  <a:lnTo>
                    <a:pt x="268" y="622"/>
                  </a:lnTo>
                  <a:lnTo>
                    <a:pt x="298" y="614"/>
                  </a:lnTo>
                  <a:lnTo>
                    <a:pt x="327" y="614"/>
                  </a:lnTo>
                  <a:lnTo>
                    <a:pt x="356" y="607"/>
                  </a:lnTo>
                  <a:lnTo>
                    <a:pt x="378" y="600"/>
                  </a:lnTo>
                  <a:lnTo>
                    <a:pt x="400" y="578"/>
                  </a:lnTo>
                  <a:lnTo>
                    <a:pt x="422" y="571"/>
                  </a:lnTo>
                  <a:lnTo>
                    <a:pt x="444" y="556"/>
                  </a:lnTo>
                  <a:lnTo>
                    <a:pt x="444" y="578"/>
                  </a:lnTo>
                  <a:lnTo>
                    <a:pt x="422" y="600"/>
                  </a:lnTo>
                  <a:lnTo>
                    <a:pt x="400" y="614"/>
                  </a:lnTo>
                  <a:lnTo>
                    <a:pt x="371" y="629"/>
                  </a:lnTo>
                  <a:lnTo>
                    <a:pt x="349" y="644"/>
                  </a:lnTo>
                  <a:lnTo>
                    <a:pt x="327" y="651"/>
                  </a:lnTo>
                  <a:lnTo>
                    <a:pt x="305" y="658"/>
                  </a:lnTo>
                  <a:lnTo>
                    <a:pt x="283" y="666"/>
                  </a:lnTo>
                  <a:lnTo>
                    <a:pt x="254" y="680"/>
                  </a:lnTo>
                  <a:lnTo>
                    <a:pt x="232" y="688"/>
                  </a:lnTo>
                  <a:lnTo>
                    <a:pt x="210" y="695"/>
                  </a:lnTo>
                  <a:lnTo>
                    <a:pt x="232" y="702"/>
                  </a:lnTo>
                  <a:lnTo>
                    <a:pt x="261" y="695"/>
                  </a:lnTo>
                  <a:lnTo>
                    <a:pt x="290" y="688"/>
                  </a:lnTo>
                  <a:lnTo>
                    <a:pt x="312" y="680"/>
                  </a:lnTo>
                  <a:lnTo>
                    <a:pt x="341" y="673"/>
                  </a:lnTo>
                  <a:lnTo>
                    <a:pt x="363" y="666"/>
                  </a:lnTo>
                  <a:lnTo>
                    <a:pt x="393" y="658"/>
                  </a:lnTo>
                  <a:lnTo>
                    <a:pt x="415" y="644"/>
                  </a:lnTo>
                  <a:lnTo>
                    <a:pt x="437" y="636"/>
                  </a:lnTo>
                  <a:lnTo>
                    <a:pt x="466" y="629"/>
                  </a:lnTo>
                  <a:lnTo>
                    <a:pt x="458" y="651"/>
                  </a:lnTo>
                  <a:lnTo>
                    <a:pt x="429" y="673"/>
                  </a:lnTo>
                  <a:lnTo>
                    <a:pt x="407" y="688"/>
                  </a:lnTo>
                  <a:lnTo>
                    <a:pt x="385" y="710"/>
                  </a:lnTo>
                  <a:lnTo>
                    <a:pt x="356" y="717"/>
                  </a:lnTo>
                  <a:lnTo>
                    <a:pt x="327" y="724"/>
                  </a:lnTo>
                  <a:lnTo>
                    <a:pt x="298" y="732"/>
                  </a:lnTo>
                  <a:lnTo>
                    <a:pt x="276" y="739"/>
                  </a:lnTo>
                  <a:lnTo>
                    <a:pt x="254" y="746"/>
                  </a:lnTo>
                  <a:lnTo>
                    <a:pt x="232" y="746"/>
                  </a:lnTo>
                  <a:lnTo>
                    <a:pt x="210" y="753"/>
                  </a:lnTo>
                  <a:lnTo>
                    <a:pt x="239" y="746"/>
                  </a:lnTo>
                  <a:lnTo>
                    <a:pt x="261" y="746"/>
                  </a:lnTo>
                  <a:lnTo>
                    <a:pt x="283" y="739"/>
                  </a:lnTo>
                  <a:lnTo>
                    <a:pt x="305" y="739"/>
                  </a:lnTo>
                  <a:lnTo>
                    <a:pt x="334" y="739"/>
                  </a:lnTo>
                  <a:lnTo>
                    <a:pt x="363" y="739"/>
                  </a:lnTo>
                  <a:lnTo>
                    <a:pt x="341" y="753"/>
                  </a:lnTo>
                  <a:lnTo>
                    <a:pt x="319" y="768"/>
                  </a:lnTo>
                  <a:lnTo>
                    <a:pt x="305" y="790"/>
                  </a:lnTo>
                  <a:lnTo>
                    <a:pt x="298" y="812"/>
                  </a:lnTo>
                  <a:lnTo>
                    <a:pt x="276" y="819"/>
                  </a:lnTo>
                  <a:lnTo>
                    <a:pt x="254" y="827"/>
                  </a:lnTo>
                  <a:lnTo>
                    <a:pt x="290" y="827"/>
                  </a:lnTo>
                  <a:lnTo>
                    <a:pt x="312" y="827"/>
                  </a:lnTo>
                  <a:lnTo>
                    <a:pt x="341" y="819"/>
                  </a:lnTo>
                  <a:lnTo>
                    <a:pt x="363" y="819"/>
                  </a:lnTo>
                  <a:lnTo>
                    <a:pt x="341" y="841"/>
                  </a:lnTo>
                  <a:lnTo>
                    <a:pt x="319" y="863"/>
                  </a:lnTo>
                  <a:lnTo>
                    <a:pt x="298" y="885"/>
                  </a:lnTo>
                  <a:lnTo>
                    <a:pt x="276" y="907"/>
                  </a:lnTo>
                  <a:lnTo>
                    <a:pt x="319" y="914"/>
                  </a:lnTo>
                  <a:lnTo>
                    <a:pt x="341" y="914"/>
                  </a:lnTo>
                  <a:lnTo>
                    <a:pt x="363" y="907"/>
                  </a:lnTo>
                  <a:lnTo>
                    <a:pt x="400" y="900"/>
                  </a:lnTo>
                  <a:lnTo>
                    <a:pt x="422" y="900"/>
                  </a:lnTo>
                  <a:lnTo>
                    <a:pt x="451" y="893"/>
                  </a:lnTo>
                  <a:lnTo>
                    <a:pt x="480" y="885"/>
                  </a:lnTo>
                  <a:lnTo>
                    <a:pt x="502" y="878"/>
                  </a:lnTo>
                  <a:lnTo>
                    <a:pt x="524" y="871"/>
                  </a:lnTo>
                  <a:lnTo>
                    <a:pt x="546" y="863"/>
                  </a:lnTo>
                  <a:lnTo>
                    <a:pt x="568" y="856"/>
                  </a:lnTo>
                  <a:lnTo>
                    <a:pt x="597" y="856"/>
                  </a:lnTo>
                  <a:lnTo>
                    <a:pt x="576" y="878"/>
                  </a:lnTo>
                  <a:lnTo>
                    <a:pt x="546" y="900"/>
                  </a:lnTo>
                  <a:lnTo>
                    <a:pt x="532" y="922"/>
                  </a:lnTo>
                  <a:lnTo>
                    <a:pt x="510" y="929"/>
                  </a:lnTo>
                  <a:lnTo>
                    <a:pt x="488" y="944"/>
                  </a:lnTo>
                  <a:lnTo>
                    <a:pt x="458" y="951"/>
                  </a:lnTo>
                  <a:lnTo>
                    <a:pt x="437" y="958"/>
                  </a:lnTo>
                  <a:lnTo>
                    <a:pt x="415" y="966"/>
                  </a:lnTo>
                  <a:lnTo>
                    <a:pt x="393" y="973"/>
                  </a:lnTo>
                  <a:lnTo>
                    <a:pt x="371" y="988"/>
                  </a:lnTo>
                  <a:lnTo>
                    <a:pt x="349" y="995"/>
                  </a:lnTo>
                  <a:lnTo>
                    <a:pt x="327" y="1002"/>
                  </a:lnTo>
                  <a:lnTo>
                    <a:pt x="305" y="1010"/>
                  </a:lnTo>
                  <a:lnTo>
                    <a:pt x="283" y="1010"/>
                  </a:lnTo>
                  <a:lnTo>
                    <a:pt x="261" y="1017"/>
                  </a:lnTo>
                  <a:lnTo>
                    <a:pt x="239" y="1032"/>
                  </a:lnTo>
                  <a:lnTo>
                    <a:pt x="261" y="1032"/>
                  </a:lnTo>
                  <a:lnTo>
                    <a:pt x="283" y="1032"/>
                  </a:lnTo>
                  <a:lnTo>
                    <a:pt x="305" y="1024"/>
                  </a:lnTo>
                  <a:lnTo>
                    <a:pt x="341" y="1017"/>
                  </a:lnTo>
                  <a:lnTo>
                    <a:pt x="363" y="1017"/>
                  </a:lnTo>
                  <a:lnTo>
                    <a:pt x="385" y="1010"/>
                  </a:lnTo>
                  <a:lnTo>
                    <a:pt x="415" y="1002"/>
                  </a:lnTo>
                  <a:lnTo>
                    <a:pt x="437" y="1002"/>
                  </a:lnTo>
                  <a:lnTo>
                    <a:pt x="458" y="995"/>
                  </a:lnTo>
                  <a:lnTo>
                    <a:pt x="466" y="1017"/>
                  </a:lnTo>
                  <a:lnTo>
                    <a:pt x="444" y="1024"/>
                  </a:lnTo>
                  <a:lnTo>
                    <a:pt x="415" y="1032"/>
                  </a:lnTo>
                  <a:lnTo>
                    <a:pt x="393" y="1046"/>
                  </a:lnTo>
                  <a:lnTo>
                    <a:pt x="363" y="1061"/>
                  </a:lnTo>
                  <a:lnTo>
                    <a:pt x="341" y="1068"/>
                  </a:lnTo>
                  <a:lnTo>
                    <a:pt x="319" y="1075"/>
                  </a:lnTo>
                  <a:lnTo>
                    <a:pt x="298" y="1068"/>
                  </a:lnTo>
                  <a:lnTo>
                    <a:pt x="283" y="1090"/>
                  </a:lnTo>
                  <a:lnTo>
                    <a:pt x="312" y="1097"/>
                  </a:lnTo>
                  <a:lnTo>
                    <a:pt x="341" y="1097"/>
                  </a:lnTo>
                  <a:lnTo>
                    <a:pt x="363" y="1097"/>
                  </a:lnTo>
                  <a:lnTo>
                    <a:pt x="393" y="1090"/>
                  </a:lnTo>
                  <a:lnTo>
                    <a:pt x="415" y="1090"/>
                  </a:lnTo>
                  <a:lnTo>
                    <a:pt x="437" y="1083"/>
                  </a:lnTo>
                  <a:lnTo>
                    <a:pt x="466" y="1068"/>
                  </a:lnTo>
                  <a:lnTo>
                    <a:pt x="488" y="1061"/>
                  </a:lnTo>
                  <a:lnTo>
                    <a:pt x="517" y="1046"/>
                  </a:lnTo>
                  <a:lnTo>
                    <a:pt x="539" y="1039"/>
                  </a:lnTo>
                  <a:lnTo>
                    <a:pt x="510" y="1068"/>
                  </a:lnTo>
                  <a:lnTo>
                    <a:pt x="488" y="1090"/>
                  </a:lnTo>
                  <a:lnTo>
                    <a:pt x="466" y="1112"/>
                  </a:lnTo>
                  <a:lnTo>
                    <a:pt x="444" y="1127"/>
                  </a:lnTo>
                  <a:lnTo>
                    <a:pt x="415" y="1149"/>
                  </a:lnTo>
                  <a:lnTo>
                    <a:pt x="385" y="1163"/>
                  </a:lnTo>
                  <a:lnTo>
                    <a:pt x="356" y="1178"/>
                  </a:lnTo>
                  <a:lnTo>
                    <a:pt x="334" y="1185"/>
                  </a:lnTo>
                  <a:lnTo>
                    <a:pt x="312" y="1193"/>
                  </a:lnTo>
                  <a:lnTo>
                    <a:pt x="341" y="1193"/>
                  </a:lnTo>
                  <a:lnTo>
                    <a:pt x="363" y="1193"/>
                  </a:lnTo>
                  <a:lnTo>
                    <a:pt x="385" y="1193"/>
                  </a:lnTo>
                  <a:lnTo>
                    <a:pt x="415" y="1185"/>
                  </a:lnTo>
                  <a:lnTo>
                    <a:pt x="437" y="1185"/>
                  </a:lnTo>
                  <a:lnTo>
                    <a:pt x="458" y="1185"/>
                  </a:lnTo>
                  <a:lnTo>
                    <a:pt x="451" y="1207"/>
                  </a:lnTo>
                  <a:lnTo>
                    <a:pt x="429" y="1222"/>
                  </a:lnTo>
                  <a:lnTo>
                    <a:pt x="407" y="1229"/>
                  </a:lnTo>
                  <a:lnTo>
                    <a:pt x="385" y="1244"/>
                  </a:lnTo>
                  <a:lnTo>
                    <a:pt x="422" y="1244"/>
                  </a:lnTo>
                  <a:lnTo>
                    <a:pt x="444" y="1236"/>
                  </a:lnTo>
                  <a:lnTo>
                    <a:pt x="473" y="1236"/>
                  </a:lnTo>
                  <a:lnTo>
                    <a:pt x="495" y="1236"/>
                  </a:lnTo>
                  <a:lnTo>
                    <a:pt x="473" y="1244"/>
                  </a:lnTo>
                  <a:lnTo>
                    <a:pt x="451" y="1258"/>
                  </a:lnTo>
                  <a:lnTo>
                    <a:pt x="429" y="1266"/>
                  </a:lnTo>
                  <a:lnTo>
                    <a:pt x="407" y="1288"/>
                  </a:lnTo>
                  <a:lnTo>
                    <a:pt x="437" y="1288"/>
                  </a:lnTo>
                  <a:lnTo>
                    <a:pt x="466" y="1280"/>
                  </a:lnTo>
                  <a:lnTo>
                    <a:pt x="495" y="1280"/>
                  </a:lnTo>
                  <a:lnTo>
                    <a:pt x="517" y="1273"/>
                  </a:lnTo>
                  <a:lnTo>
                    <a:pt x="539" y="1266"/>
                  </a:lnTo>
                  <a:lnTo>
                    <a:pt x="576" y="1258"/>
                  </a:lnTo>
                  <a:lnTo>
                    <a:pt x="605" y="1244"/>
                  </a:lnTo>
                  <a:lnTo>
                    <a:pt x="634" y="1236"/>
                  </a:lnTo>
                  <a:lnTo>
                    <a:pt x="656" y="1229"/>
                  </a:lnTo>
                  <a:lnTo>
                    <a:pt x="678" y="1229"/>
                  </a:lnTo>
                  <a:lnTo>
                    <a:pt x="663" y="1251"/>
                  </a:lnTo>
                  <a:lnTo>
                    <a:pt x="649" y="1273"/>
                  </a:lnTo>
                  <a:lnTo>
                    <a:pt x="627" y="1295"/>
                  </a:lnTo>
                  <a:lnTo>
                    <a:pt x="605" y="1310"/>
                  </a:lnTo>
                  <a:lnTo>
                    <a:pt x="583" y="1332"/>
                  </a:lnTo>
                  <a:lnTo>
                    <a:pt x="561" y="1339"/>
                  </a:lnTo>
                  <a:lnTo>
                    <a:pt x="532" y="1346"/>
                  </a:lnTo>
                  <a:lnTo>
                    <a:pt x="510" y="1354"/>
                  </a:lnTo>
                  <a:lnTo>
                    <a:pt x="488" y="1361"/>
                  </a:lnTo>
                  <a:lnTo>
                    <a:pt x="466" y="1368"/>
                  </a:lnTo>
                  <a:lnTo>
                    <a:pt x="444" y="1376"/>
                  </a:lnTo>
                  <a:lnTo>
                    <a:pt x="422" y="1383"/>
                  </a:lnTo>
                  <a:lnTo>
                    <a:pt x="451" y="1397"/>
                  </a:lnTo>
                  <a:lnTo>
                    <a:pt x="473" y="1397"/>
                  </a:lnTo>
                  <a:lnTo>
                    <a:pt x="495" y="1390"/>
                  </a:lnTo>
                  <a:lnTo>
                    <a:pt x="524" y="1383"/>
                  </a:lnTo>
                  <a:lnTo>
                    <a:pt x="546" y="1376"/>
                  </a:lnTo>
                  <a:lnTo>
                    <a:pt x="568" y="1368"/>
                  </a:lnTo>
                  <a:lnTo>
                    <a:pt x="605" y="1354"/>
                  </a:lnTo>
                  <a:lnTo>
                    <a:pt x="627" y="1354"/>
                  </a:lnTo>
                  <a:lnTo>
                    <a:pt x="649" y="1346"/>
                  </a:lnTo>
                  <a:lnTo>
                    <a:pt x="619" y="1368"/>
                  </a:lnTo>
                  <a:lnTo>
                    <a:pt x="597" y="1376"/>
                  </a:lnTo>
                  <a:lnTo>
                    <a:pt x="583" y="1397"/>
                  </a:lnTo>
                  <a:lnTo>
                    <a:pt x="561" y="1412"/>
                  </a:lnTo>
                  <a:lnTo>
                    <a:pt x="532" y="1419"/>
                  </a:lnTo>
                  <a:lnTo>
                    <a:pt x="502" y="1419"/>
                  </a:lnTo>
                  <a:lnTo>
                    <a:pt x="480" y="1419"/>
                  </a:lnTo>
                  <a:lnTo>
                    <a:pt x="451" y="1427"/>
                  </a:lnTo>
                  <a:lnTo>
                    <a:pt x="429" y="1434"/>
                  </a:lnTo>
                  <a:lnTo>
                    <a:pt x="458" y="1441"/>
                  </a:lnTo>
                  <a:lnTo>
                    <a:pt x="495" y="1434"/>
                  </a:lnTo>
                  <a:lnTo>
                    <a:pt x="524" y="1434"/>
                  </a:lnTo>
                  <a:lnTo>
                    <a:pt x="546" y="1427"/>
                  </a:lnTo>
                  <a:lnTo>
                    <a:pt x="568" y="1427"/>
                  </a:lnTo>
                  <a:lnTo>
                    <a:pt x="554" y="1449"/>
                  </a:lnTo>
                  <a:lnTo>
                    <a:pt x="532" y="1471"/>
                  </a:lnTo>
                  <a:lnTo>
                    <a:pt x="510" y="1485"/>
                  </a:lnTo>
                  <a:lnTo>
                    <a:pt x="488" y="1500"/>
                  </a:lnTo>
                  <a:lnTo>
                    <a:pt x="458" y="1515"/>
                  </a:lnTo>
                  <a:lnTo>
                    <a:pt x="429" y="1515"/>
                  </a:lnTo>
                  <a:lnTo>
                    <a:pt x="407" y="1522"/>
                  </a:lnTo>
                  <a:lnTo>
                    <a:pt x="385" y="1529"/>
                  </a:lnTo>
                  <a:lnTo>
                    <a:pt x="407" y="1529"/>
                  </a:lnTo>
                  <a:lnTo>
                    <a:pt x="437" y="1529"/>
                  </a:lnTo>
                  <a:lnTo>
                    <a:pt x="466" y="1529"/>
                  </a:lnTo>
                  <a:lnTo>
                    <a:pt x="488" y="1522"/>
                  </a:lnTo>
                  <a:lnTo>
                    <a:pt x="517" y="1522"/>
                  </a:lnTo>
                  <a:lnTo>
                    <a:pt x="539" y="1515"/>
                  </a:lnTo>
                  <a:lnTo>
                    <a:pt x="568" y="1515"/>
                  </a:lnTo>
                  <a:lnTo>
                    <a:pt x="590" y="1507"/>
                  </a:lnTo>
                  <a:lnTo>
                    <a:pt x="612" y="1500"/>
                  </a:lnTo>
                  <a:lnTo>
                    <a:pt x="641" y="1493"/>
                  </a:lnTo>
                  <a:lnTo>
                    <a:pt x="663" y="1485"/>
                  </a:lnTo>
                  <a:lnTo>
                    <a:pt x="685" y="1478"/>
                  </a:lnTo>
                  <a:lnTo>
                    <a:pt x="663" y="1500"/>
                  </a:lnTo>
                  <a:lnTo>
                    <a:pt x="641" y="1522"/>
                  </a:lnTo>
                  <a:lnTo>
                    <a:pt x="619" y="1536"/>
                  </a:lnTo>
                  <a:lnTo>
                    <a:pt x="583" y="1558"/>
                  </a:lnTo>
                  <a:lnTo>
                    <a:pt x="561" y="1566"/>
                  </a:lnTo>
                  <a:lnTo>
                    <a:pt x="539" y="1580"/>
                  </a:lnTo>
                  <a:lnTo>
                    <a:pt x="517" y="1588"/>
                  </a:lnTo>
                  <a:lnTo>
                    <a:pt x="480" y="1602"/>
                  </a:lnTo>
                  <a:lnTo>
                    <a:pt x="458" y="1617"/>
                  </a:lnTo>
                  <a:lnTo>
                    <a:pt x="437" y="1624"/>
                  </a:lnTo>
                  <a:lnTo>
                    <a:pt x="415" y="1632"/>
                  </a:lnTo>
                  <a:lnTo>
                    <a:pt x="444" y="1639"/>
                  </a:lnTo>
                  <a:lnTo>
                    <a:pt x="466" y="1639"/>
                  </a:lnTo>
                  <a:lnTo>
                    <a:pt x="488" y="1632"/>
                  </a:lnTo>
                  <a:lnTo>
                    <a:pt x="510" y="1624"/>
                  </a:lnTo>
                  <a:lnTo>
                    <a:pt x="539" y="1617"/>
                  </a:lnTo>
                  <a:lnTo>
                    <a:pt x="561" y="1617"/>
                  </a:lnTo>
                  <a:lnTo>
                    <a:pt x="539" y="1632"/>
                  </a:lnTo>
                  <a:lnTo>
                    <a:pt x="517" y="1646"/>
                  </a:lnTo>
                  <a:lnTo>
                    <a:pt x="495" y="1654"/>
                  </a:lnTo>
                  <a:lnTo>
                    <a:pt x="473" y="1661"/>
                  </a:lnTo>
                  <a:lnTo>
                    <a:pt x="451" y="1668"/>
                  </a:lnTo>
                  <a:lnTo>
                    <a:pt x="429" y="1668"/>
                  </a:lnTo>
                  <a:lnTo>
                    <a:pt x="407" y="1676"/>
                  </a:lnTo>
                  <a:lnTo>
                    <a:pt x="385" y="1683"/>
                  </a:lnTo>
                  <a:lnTo>
                    <a:pt x="363" y="1690"/>
                  </a:lnTo>
                  <a:lnTo>
                    <a:pt x="341" y="1690"/>
                  </a:lnTo>
                  <a:lnTo>
                    <a:pt x="319" y="1690"/>
                  </a:lnTo>
                  <a:lnTo>
                    <a:pt x="298" y="1690"/>
                  </a:lnTo>
                  <a:lnTo>
                    <a:pt x="276" y="1683"/>
                  </a:lnTo>
                  <a:lnTo>
                    <a:pt x="254" y="1676"/>
                  </a:lnTo>
                  <a:lnTo>
                    <a:pt x="232" y="1676"/>
                  </a:lnTo>
                  <a:lnTo>
                    <a:pt x="210" y="1676"/>
                  </a:lnTo>
                  <a:lnTo>
                    <a:pt x="188" y="1683"/>
                  </a:lnTo>
                  <a:lnTo>
                    <a:pt x="166" y="1690"/>
                  </a:lnTo>
                  <a:lnTo>
                    <a:pt x="144" y="1697"/>
                  </a:lnTo>
                  <a:lnTo>
                    <a:pt x="122" y="1705"/>
                  </a:lnTo>
                  <a:lnTo>
                    <a:pt x="100" y="1712"/>
                  </a:lnTo>
                  <a:lnTo>
                    <a:pt x="78" y="1712"/>
                  </a:lnTo>
                  <a:lnTo>
                    <a:pt x="56" y="1719"/>
                  </a:lnTo>
                  <a:lnTo>
                    <a:pt x="34" y="1719"/>
                  </a:lnTo>
                  <a:lnTo>
                    <a:pt x="12" y="1727"/>
                  </a:lnTo>
                  <a:lnTo>
                    <a:pt x="0" y="1727"/>
                  </a:lnTo>
                  <a:lnTo>
                    <a:pt x="0" y="1734"/>
                  </a:lnTo>
                  <a:lnTo>
                    <a:pt x="0" y="1727"/>
                  </a:lnTo>
                  <a:lnTo>
                    <a:pt x="0" y="1719"/>
                  </a:lnTo>
                  <a:lnTo>
                    <a:pt x="0" y="2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5120" y="3038400"/>
              <a:ext cx="2265480" cy="3138480"/>
            </a:xfrm>
            <a:custGeom>
              <a:avLst/>
              <a:gdLst/>
              <a:ahLst/>
              <a:rect l="l" t="t" r="r" b="b"/>
              <a:pathLst>
                <a:path w="1427" h="1977">
                  <a:moveTo>
                    <a:pt x="278" y="1631"/>
                  </a:moveTo>
                  <a:lnTo>
                    <a:pt x="206" y="1668"/>
                  </a:lnTo>
                  <a:lnTo>
                    <a:pt x="53" y="1674"/>
                  </a:lnTo>
                  <a:lnTo>
                    <a:pt x="103" y="1608"/>
                  </a:lnTo>
                  <a:lnTo>
                    <a:pt x="159" y="1584"/>
                  </a:lnTo>
                  <a:lnTo>
                    <a:pt x="171" y="1536"/>
                  </a:lnTo>
                  <a:lnTo>
                    <a:pt x="227" y="1526"/>
                  </a:lnTo>
                  <a:lnTo>
                    <a:pt x="248" y="1492"/>
                  </a:lnTo>
                  <a:lnTo>
                    <a:pt x="270" y="1492"/>
                  </a:lnTo>
                  <a:lnTo>
                    <a:pt x="292" y="1485"/>
                  </a:lnTo>
                  <a:lnTo>
                    <a:pt x="314" y="1478"/>
                  </a:lnTo>
                  <a:lnTo>
                    <a:pt x="292" y="1470"/>
                  </a:lnTo>
                  <a:lnTo>
                    <a:pt x="270" y="1463"/>
                  </a:lnTo>
                  <a:lnTo>
                    <a:pt x="248" y="1448"/>
                  </a:lnTo>
                  <a:lnTo>
                    <a:pt x="227" y="1434"/>
                  </a:lnTo>
                  <a:lnTo>
                    <a:pt x="205" y="1419"/>
                  </a:lnTo>
                  <a:lnTo>
                    <a:pt x="153" y="1452"/>
                  </a:lnTo>
                  <a:lnTo>
                    <a:pt x="161" y="1412"/>
                  </a:lnTo>
                  <a:lnTo>
                    <a:pt x="139" y="1397"/>
                  </a:lnTo>
                  <a:lnTo>
                    <a:pt x="161" y="1397"/>
                  </a:lnTo>
                  <a:lnTo>
                    <a:pt x="183" y="1390"/>
                  </a:lnTo>
                  <a:lnTo>
                    <a:pt x="219" y="1390"/>
                  </a:lnTo>
                  <a:lnTo>
                    <a:pt x="241" y="1390"/>
                  </a:lnTo>
                  <a:lnTo>
                    <a:pt x="263" y="1397"/>
                  </a:lnTo>
                  <a:lnTo>
                    <a:pt x="326" y="1391"/>
                  </a:lnTo>
                  <a:lnTo>
                    <a:pt x="256" y="1375"/>
                  </a:lnTo>
                  <a:lnTo>
                    <a:pt x="234" y="1368"/>
                  </a:lnTo>
                  <a:lnTo>
                    <a:pt x="212" y="1361"/>
                  </a:lnTo>
                  <a:lnTo>
                    <a:pt x="190" y="1361"/>
                  </a:lnTo>
                  <a:lnTo>
                    <a:pt x="168" y="1346"/>
                  </a:lnTo>
                  <a:lnTo>
                    <a:pt x="146" y="1346"/>
                  </a:lnTo>
                  <a:lnTo>
                    <a:pt x="124" y="1339"/>
                  </a:lnTo>
                  <a:lnTo>
                    <a:pt x="109" y="1317"/>
                  </a:lnTo>
                  <a:lnTo>
                    <a:pt x="88" y="1317"/>
                  </a:lnTo>
                  <a:lnTo>
                    <a:pt x="80" y="1295"/>
                  </a:lnTo>
                  <a:lnTo>
                    <a:pt x="102" y="1309"/>
                  </a:lnTo>
                  <a:lnTo>
                    <a:pt x="124" y="1309"/>
                  </a:lnTo>
                  <a:lnTo>
                    <a:pt x="146" y="1317"/>
                  </a:lnTo>
                  <a:lnTo>
                    <a:pt x="212" y="1324"/>
                  </a:lnTo>
                  <a:lnTo>
                    <a:pt x="234" y="1324"/>
                  </a:lnTo>
                  <a:lnTo>
                    <a:pt x="372" y="1331"/>
                  </a:lnTo>
                  <a:lnTo>
                    <a:pt x="322" y="1302"/>
                  </a:lnTo>
                  <a:lnTo>
                    <a:pt x="344" y="1295"/>
                  </a:lnTo>
                  <a:lnTo>
                    <a:pt x="365" y="1284"/>
                  </a:lnTo>
                  <a:lnTo>
                    <a:pt x="344" y="1288"/>
                  </a:lnTo>
                  <a:lnTo>
                    <a:pt x="322" y="1288"/>
                  </a:lnTo>
                  <a:lnTo>
                    <a:pt x="300" y="1280"/>
                  </a:lnTo>
                  <a:lnTo>
                    <a:pt x="278" y="1280"/>
                  </a:lnTo>
                  <a:lnTo>
                    <a:pt x="256" y="1273"/>
                  </a:lnTo>
                  <a:lnTo>
                    <a:pt x="227" y="1273"/>
                  </a:lnTo>
                  <a:lnTo>
                    <a:pt x="117" y="1280"/>
                  </a:lnTo>
                  <a:lnTo>
                    <a:pt x="88" y="1280"/>
                  </a:lnTo>
                  <a:lnTo>
                    <a:pt x="66" y="1280"/>
                  </a:lnTo>
                  <a:lnTo>
                    <a:pt x="44" y="1273"/>
                  </a:lnTo>
                  <a:lnTo>
                    <a:pt x="22" y="1273"/>
                  </a:lnTo>
                  <a:lnTo>
                    <a:pt x="0" y="1280"/>
                  </a:lnTo>
                  <a:lnTo>
                    <a:pt x="22" y="1273"/>
                  </a:lnTo>
                  <a:lnTo>
                    <a:pt x="44" y="1273"/>
                  </a:lnTo>
                  <a:lnTo>
                    <a:pt x="80" y="1266"/>
                  </a:lnTo>
                  <a:lnTo>
                    <a:pt x="102" y="1258"/>
                  </a:lnTo>
                  <a:lnTo>
                    <a:pt x="131" y="1251"/>
                  </a:lnTo>
                  <a:lnTo>
                    <a:pt x="153" y="1244"/>
                  </a:lnTo>
                  <a:lnTo>
                    <a:pt x="175" y="1236"/>
                  </a:lnTo>
                  <a:lnTo>
                    <a:pt x="197" y="1229"/>
                  </a:lnTo>
                  <a:lnTo>
                    <a:pt x="375" y="1235"/>
                  </a:lnTo>
                  <a:lnTo>
                    <a:pt x="428" y="1208"/>
                  </a:lnTo>
                  <a:lnTo>
                    <a:pt x="309" y="1196"/>
                  </a:lnTo>
                  <a:lnTo>
                    <a:pt x="227" y="1185"/>
                  </a:lnTo>
                  <a:lnTo>
                    <a:pt x="205" y="1192"/>
                  </a:lnTo>
                  <a:lnTo>
                    <a:pt x="183" y="1200"/>
                  </a:lnTo>
                  <a:lnTo>
                    <a:pt x="161" y="1207"/>
                  </a:lnTo>
                  <a:lnTo>
                    <a:pt x="183" y="1185"/>
                  </a:lnTo>
                  <a:lnTo>
                    <a:pt x="205" y="1178"/>
                  </a:lnTo>
                  <a:lnTo>
                    <a:pt x="227" y="1170"/>
                  </a:lnTo>
                  <a:lnTo>
                    <a:pt x="248" y="1163"/>
                  </a:lnTo>
                  <a:lnTo>
                    <a:pt x="270" y="1156"/>
                  </a:lnTo>
                  <a:lnTo>
                    <a:pt x="292" y="1141"/>
                  </a:lnTo>
                  <a:lnTo>
                    <a:pt x="307" y="1119"/>
                  </a:lnTo>
                  <a:lnTo>
                    <a:pt x="398" y="1130"/>
                  </a:lnTo>
                  <a:lnTo>
                    <a:pt x="423" y="1119"/>
                  </a:lnTo>
                  <a:lnTo>
                    <a:pt x="461" y="1109"/>
                  </a:lnTo>
                  <a:lnTo>
                    <a:pt x="389" y="1112"/>
                  </a:lnTo>
                  <a:lnTo>
                    <a:pt x="449" y="1077"/>
                  </a:lnTo>
                  <a:lnTo>
                    <a:pt x="307" y="1112"/>
                  </a:lnTo>
                  <a:lnTo>
                    <a:pt x="278" y="1127"/>
                  </a:lnTo>
                  <a:lnTo>
                    <a:pt x="256" y="1141"/>
                  </a:lnTo>
                  <a:lnTo>
                    <a:pt x="234" y="1156"/>
                  </a:lnTo>
                  <a:lnTo>
                    <a:pt x="212" y="1163"/>
                  </a:lnTo>
                  <a:lnTo>
                    <a:pt x="190" y="1170"/>
                  </a:lnTo>
                  <a:lnTo>
                    <a:pt x="168" y="1170"/>
                  </a:lnTo>
                  <a:lnTo>
                    <a:pt x="139" y="1178"/>
                  </a:lnTo>
                  <a:lnTo>
                    <a:pt x="109" y="1178"/>
                  </a:lnTo>
                  <a:lnTo>
                    <a:pt x="88" y="1178"/>
                  </a:lnTo>
                  <a:lnTo>
                    <a:pt x="109" y="1163"/>
                  </a:lnTo>
                  <a:lnTo>
                    <a:pt x="139" y="1156"/>
                  </a:lnTo>
                  <a:lnTo>
                    <a:pt x="161" y="1141"/>
                  </a:lnTo>
                  <a:lnTo>
                    <a:pt x="183" y="1127"/>
                  </a:lnTo>
                  <a:lnTo>
                    <a:pt x="205" y="1119"/>
                  </a:lnTo>
                  <a:lnTo>
                    <a:pt x="227" y="1112"/>
                  </a:lnTo>
                  <a:lnTo>
                    <a:pt x="248" y="1097"/>
                  </a:lnTo>
                  <a:lnTo>
                    <a:pt x="270" y="1090"/>
                  </a:lnTo>
                  <a:lnTo>
                    <a:pt x="312" y="1073"/>
                  </a:lnTo>
                  <a:lnTo>
                    <a:pt x="332" y="1052"/>
                  </a:lnTo>
                  <a:lnTo>
                    <a:pt x="263" y="1031"/>
                  </a:lnTo>
                  <a:lnTo>
                    <a:pt x="241" y="1039"/>
                  </a:lnTo>
                  <a:lnTo>
                    <a:pt x="219" y="1039"/>
                  </a:lnTo>
                  <a:lnTo>
                    <a:pt x="190" y="1046"/>
                  </a:lnTo>
                  <a:lnTo>
                    <a:pt x="168" y="1046"/>
                  </a:lnTo>
                  <a:lnTo>
                    <a:pt x="146" y="1053"/>
                  </a:lnTo>
                  <a:lnTo>
                    <a:pt x="124" y="1053"/>
                  </a:lnTo>
                  <a:lnTo>
                    <a:pt x="175" y="1031"/>
                  </a:lnTo>
                  <a:lnTo>
                    <a:pt x="113" y="971"/>
                  </a:lnTo>
                  <a:lnTo>
                    <a:pt x="205" y="1024"/>
                  </a:lnTo>
                  <a:lnTo>
                    <a:pt x="168" y="977"/>
                  </a:lnTo>
                  <a:lnTo>
                    <a:pt x="256" y="995"/>
                  </a:lnTo>
                  <a:lnTo>
                    <a:pt x="278" y="987"/>
                  </a:lnTo>
                  <a:lnTo>
                    <a:pt x="335" y="1008"/>
                  </a:lnTo>
                  <a:lnTo>
                    <a:pt x="360" y="978"/>
                  </a:lnTo>
                  <a:lnTo>
                    <a:pt x="390" y="993"/>
                  </a:lnTo>
                  <a:lnTo>
                    <a:pt x="471" y="977"/>
                  </a:lnTo>
                  <a:lnTo>
                    <a:pt x="321" y="953"/>
                  </a:lnTo>
                  <a:lnTo>
                    <a:pt x="416" y="927"/>
                  </a:lnTo>
                  <a:lnTo>
                    <a:pt x="307" y="944"/>
                  </a:lnTo>
                  <a:lnTo>
                    <a:pt x="285" y="958"/>
                  </a:lnTo>
                  <a:lnTo>
                    <a:pt x="263" y="966"/>
                  </a:lnTo>
                  <a:lnTo>
                    <a:pt x="241" y="973"/>
                  </a:lnTo>
                  <a:lnTo>
                    <a:pt x="256" y="951"/>
                  </a:lnTo>
                  <a:lnTo>
                    <a:pt x="278" y="944"/>
                  </a:lnTo>
                  <a:lnTo>
                    <a:pt x="307" y="929"/>
                  </a:lnTo>
                  <a:lnTo>
                    <a:pt x="329" y="907"/>
                  </a:lnTo>
                  <a:lnTo>
                    <a:pt x="452" y="894"/>
                  </a:lnTo>
                  <a:lnTo>
                    <a:pt x="473" y="876"/>
                  </a:lnTo>
                  <a:lnTo>
                    <a:pt x="456" y="852"/>
                  </a:lnTo>
                  <a:lnTo>
                    <a:pt x="366" y="863"/>
                  </a:lnTo>
                  <a:lnTo>
                    <a:pt x="356" y="853"/>
                  </a:lnTo>
                  <a:lnTo>
                    <a:pt x="329" y="848"/>
                  </a:lnTo>
                  <a:lnTo>
                    <a:pt x="300" y="863"/>
                  </a:lnTo>
                  <a:lnTo>
                    <a:pt x="278" y="870"/>
                  </a:lnTo>
                  <a:lnTo>
                    <a:pt x="256" y="870"/>
                  </a:lnTo>
                  <a:lnTo>
                    <a:pt x="234" y="878"/>
                  </a:lnTo>
                  <a:lnTo>
                    <a:pt x="243" y="840"/>
                  </a:lnTo>
                  <a:lnTo>
                    <a:pt x="212" y="878"/>
                  </a:lnTo>
                  <a:lnTo>
                    <a:pt x="190" y="878"/>
                  </a:lnTo>
                  <a:lnTo>
                    <a:pt x="129" y="884"/>
                  </a:lnTo>
                  <a:lnTo>
                    <a:pt x="171" y="852"/>
                  </a:lnTo>
                  <a:lnTo>
                    <a:pt x="213" y="831"/>
                  </a:lnTo>
                  <a:lnTo>
                    <a:pt x="266" y="802"/>
                  </a:lnTo>
                  <a:lnTo>
                    <a:pt x="270" y="834"/>
                  </a:lnTo>
                  <a:lnTo>
                    <a:pt x="294" y="811"/>
                  </a:lnTo>
                  <a:lnTo>
                    <a:pt x="300" y="826"/>
                  </a:lnTo>
                  <a:lnTo>
                    <a:pt x="322" y="819"/>
                  </a:lnTo>
                  <a:lnTo>
                    <a:pt x="320" y="801"/>
                  </a:lnTo>
                  <a:lnTo>
                    <a:pt x="344" y="812"/>
                  </a:lnTo>
                  <a:lnTo>
                    <a:pt x="366" y="805"/>
                  </a:lnTo>
                  <a:lnTo>
                    <a:pt x="387" y="797"/>
                  </a:lnTo>
                  <a:lnTo>
                    <a:pt x="429" y="797"/>
                  </a:lnTo>
                  <a:lnTo>
                    <a:pt x="494" y="771"/>
                  </a:lnTo>
                  <a:lnTo>
                    <a:pt x="437" y="756"/>
                  </a:lnTo>
                  <a:lnTo>
                    <a:pt x="426" y="744"/>
                  </a:lnTo>
                  <a:lnTo>
                    <a:pt x="453" y="720"/>
                  </a:lnTo>
                  <a:lnTo>
                    <a:pt x="512" y="687"/>
                  </a:lnTo>
                  <a:lnTo>
                    <a:pt x="519" y="665"/>
                  </a:lnTo>
                  <a:lnTo>
                    <a:pt x="497" y="673"/>
                  </a:lnTo>
                  <a:lnTo>
                    <a:pt x="475" y="687"/>
                  </a:lnTo>
                  <a:lnTo>
                    <a:pt x="453" y="702"/>
                  </a:lnTo>
                  <a:lnTo>
                    <a:pt x="431" y="709"/>
                  </a:lnTo>
                  <a:lnTo>
                    <a:pt x="285" y="753"/>
                  </a:lnTo>
                  <a:lnTo>
                    <a:pt x="299" y="735"/>
                  </a:lnTo>
                  <a:lnTo>
                    <a:pt x="302" y="720"/>
                  </a:lnTo>
                  <a:lnTo>
                    <a:pt x="314" y="717"/>
                  </a:lnTo>
                  <a:lnTo>
                    <a:pt x="373" y="680"/>
                  </a:lnTo>
                  <a:lnTo>
                    <a:pt x="395" y="673"/>
                  </a:lnTo>
                  <a:lnTo>
                    <a:pt x="417" y="658"/>
                  </a:lnTo>
                  <a:lnTo>
                    <a:pt x="431" y="622"/>
                  </a:lnTo>
                  <a:lnTo>
                    <a:pt x="311" y="549"/>
                  </a:lnTo>
                  <a:lnTo>
                    <a:pt x="542" y="603"/>
                  </a:lnTo>
                  <a:lnTo>
                    <a:pt x="575" y="597"/>
                  </a:lnTo>
                  <a:lnTo>
                    <a:pt x="593" y="540"/>
                  </a:lnTo>
                  <a:lnTo>
                    <a:pt x="560" y="492"/>
                  </a:lnTo>
                  <a:lnTo>
                    <a:pt x="503" y="483"/>
                  </a:lnTo>
                  <a:lnTo>
                    <a:pt x="491" y="471"/>
                  </a:lnTo>
                  <a:lnTo>
                    <a:pt x="461" y="480"/>
                  </a:lnTo>
                  <a:lnTo>
                    <a:pt x="422" y="489"/>
                  </a:lnTo>
                  <a:lnTo>
                    <a:pt x="356" y="420"/>
                  </a:lnTo>
                  <a:lnTo>
                    <a:pt x="439" y="439"/>
                  </a:lnTo>
                  <a:lnTo>
                    <a:pt x="557" y="456"/>
                  </a:lnTo>
                  <a:lnTo>
                    <a:pt x="560" y="426"/>
                  </a:lnTo>
                  <a:lnTo>
                    <a:pt x="468" y="373"/>
                  </a:lnTo>
                  <a:lnTo>
                    <a:pt x="446" y="387"/>
                  </a:lnTo>
                  <a:lnTo>
                    <a:pt x="446" y="381"/>
                  </a:lnTo>
                  <a:lnTo>
                    <a:pt x="419" y="372"/>
                  </a:lnTo>
                  <a:lnTo>
                    <a:pt x="416" y="306"/>
                  </a:lnTo>
                  <a:lnTo>
                    <a:pt x="439" y="343"/>
                  </a:lnTo>
                  <a:lnTo>
                    <a:pt x="461" y="336"/>
                  </a:lnTo>
                  <a:lnTo>
                    <a:pt x="557" y="363"/>
                  </a:lnTo>
                  <a:lnTo>
                    <a:pt x="620" y="387"/>
                  </a:lnTo>
                  <a:lnTo>
                    <a:pt x="614" y="360"/>
                  </a:lnTo>
                  <a:lnTo>
                    <a:pt x="617" y="315"/>
                  </a:lnTo>
                  <a:lnTo>
                    <a:pt x="512" y="234"/>
                  </a:lnTo>
                  <a:lnTo>
                    <a:pt x="534" y="241"/>
                  </a:lnTo>
                  <a:lnTo>
                    <a:pt x="556" y="241"/>
                  </a:lnTo>
                  <a:lnTo>
                    <a:pt x="599" y="270"/>
                  </a:lnTo>
                  <a:lnTo>
                    <a:pt x="614" y="197"/>
                  </a:lnTo>
                  <a:lnTo>
                    <a:pt x="622" y="175"/>
                  </a:lnTo>
                  <a:lnTo>
                    <a:pt x="622" y="153"/>
                  </a:lnTo>
                  <a:lnTo>
                    <a:pt x="614" y="131"/>
                  </a:lnTo>
                  <a:lnTo>
                    <a:pt x="614" y="109"/>
                  </a:lnTo>
                  <a:lnTo>
                    <a:pt x="622" y="87"/>
                  </a:lnTo>
                  <a:lnTo>
                    <a:pt x="622" y="65"/>
                  </a:lnTo>
                  <a:lnTo>
                    <a:pt x="622" y="43"/>
                  </a:lnTo>
                  <a:lnTo>
                    <a:pt x="622" y="22"/>
                  </a:lnTo>
                  <a:lnTo>
                    <a:pt x="622" y="0"/>
                  </a:lnTo>
                  <a:lnTo>
                    <a:pt x="644" y="14"/>
                  </a:lnTo>
                  <a:lnTo>
                    <a:pt x="644" y="36"/>
                  </a:lnTo>
                  <a:lnTo>
                    <a:pt x="651" y="58"/>
                  </a:lnTo>
                  <a:lnTo>
                    <a:pt x="651" y="80"/>
                  </a:lnTo>
                  <a:lnTo>
                    <a:pt x="651" y="102"/>
                  </a:lnTo>
                  <a:lnTo>
                    <a:pt x="658" y="124"/>
                  </a:lnTo>
                  <a:lnTo>
                    <a:pt x="665" y="146"/>
                  </a:lnTo>
                  <a:lnTo>
                    <a:pt x="665" y="168"/>
                  </a:lnTo>
                  <a:lnTo>
                    <a:pt x="665" y="190"/>
                  </a:lnTo>
                  <a:lnTo>
                    <a:pt x="658" y="212"/>
                  </a:lnTo>
                  <a:lnTo>
                    <a:pt x="680" y="212"/>
                  </a:lnTo>
                  <a:lnTo>
                    <a:pt x="695" y="190"/>
                  </a:lnTo>
                  <a:lnTo>
                    <a:pt x="709" y="168"/>
                  </a:lnTo>
                  <a:lnTo>
                    <a:pt x="731" y="153"/>
                  </a:lnTo>
                  <a:lnTo>
                    <a:pt x="753" y="146"/>
                  </a:lnTo>
                  <a:lnTo>
                    <a:pt x="739" y="168"/>
                  </a:lnTo>
                  <a:lnTo>
                    <a:pt x="724" y="197"/>
                  </a:lnTo>
                  <a:lnTo>
                    <a:pt x="709" y="219"/>
                  </a:lnTo>
                  <a:lnTo>
                    <a:pt x="695" y="241"/>
                  </a:lnTo>
                  <a:lnTo>
                    <a:pt x="717" y="241"/>
                  </a:lnTo>
                  <a:lnTo>
                    <a:pt x="739" y="234"/>
                  </a:lnTo>
                  <a:lnTo>
                    <a:pt x="761" y="226"/>
                  </a:lnTo>
                  <a:lnTo>
                    <a:pt x="783" y="219"/>
                  </a:lnTo>
                  <a:lnTo>
                    <a:pt x="804" y="212"/>
                  </a:lnTo>
                  <a:lnTo>
                    <a:pt x="826" y="204"/>
                  </a:lnTo>
                  <a:lnTo>
                    <a:pt x="812" y="234"/>
                  </a:lnTo>
                  <a:lnTo>
                    <a:pt x="790" y="256"/>
                  </a:lnTo>
                  <a:lnTo>
                    <a:pt x="775" y="278"/>
                  </a:lnTo>
                  <a:lnTo>
                    <a:pt x="753" y="292"/>
                  </a:lnTo>
                  <a:lnTo>
                    <a:pt x="731" y="307"/>
                  </a:lnTo>
                  <a:lnTo>
                    <a:pt x="731" y="329"/>
                  </a:lnTo>
                  <a:lnTo>
                    <a:pt x="753" y="329"/>
                  </a:lnTo>
                  <a:lnTo>
                    <a:pt x="775" y="329"/>
                  </a:lnTo>
                  <a:lnTo>
                    <a:pt x="797" y="322"/>
                  </a:lnTo>
                  <a:lnTo>
                    <a:pt x="790" y="351"/>
                  </a:lnTo>
                  <a:lnTo>
                    <a:pt x="768" y="358"/>
                  </a:lnTo>
                  <a:lnTo>
                    <a:pt x="746" y="373"/>
                  </a:lnTo>
                  <a:lnTo>
                    <a:pt x="724" y="387"/>
                  </a:lnTo>
                  <a:lnTo>
                    <a:pt x="702" y="395"/>
                  </a:lnTo>
                  <a:lnTo>
                    <a:pt x="731" y="402"/>
                  </a:lnTo>
                  <a:lnTo>
                    <a:pt x="753" y="395"/>
                  </a:lnTo>
                  <a:lnTo>
                    <a:pt x="790" y="395"/>
                  </a:lnTo>
                  <a:lnTo>
                    <a:pt x="812" y="387"/>
                  </a:lnTo>
                  <a:lnTo>
                    <a:pt x="848" y="380"/>
                  </a:lnTo>
                  <a:lnTo>
                    <a:pt x="870" y="380"/>
                  </a:lnTo>
                  <a:lnTo>
                    <a:pt x="900" y="373"/>
                  </a:lnTo>
                  <a:lnTo>
                    <a:pt x="922" y="365"/>
                  </a:lnTo>
                  <a:lnTo>
                    <a:pt x="943" y="358"/>
                  </a:lnTo>
                  <a:lnTo>
                    <a:pt x="965" y="358"/>
                  </a:lnTo>
                  <a:lnTo>
                    <a:pt x="943" y="373"/>
                  </a:lnTo>
                  <a:lnTo>
                    <a:pt x="914" y="387"/>
                  </a:lnTo>
                  <a:lnTo>
                    <a:pt x="892" y="402"/>
                  </a:lnTo>
                  <a:lnTo>
                    <a:pt x="870" y="417"/>
                  </a:lnTo>
                  <a:lnTo>
                    <a:pt x="841" y="417"/>
                  </a:lnTo>
                  <a:lnTo>
                    <a:pt x="812" y="431"/>
                  </a:lnTo>
                  <a:lnTo>
                    <a:pt x="790" y="439"/>
                  </a:lnTo>
                  <a:lnTo>
                    <a:pt x="768" y="453"/>
                  </a:lnTo>
                  <a:lnTo>
                    <a:pt x="739" y="453"/>
                  </a:lnTo>
                  <a:lnTo>
                    <a:pt x="717" y="461"/>
                  </a:lnTo>
                  <a:lnTo>
                    <a:pt x="739" y="461"/>
                  </a:lnTo>
                  <a:lnTo>
                    <a:pt x="761" y="461"/>
                  </a:lnTo>
                  <a:lnTo>
                    <a:pt x="783" y="461"/>
                  </a:lnTo>
                  <a:lnTo>
                    <a:pt x="812" y="453"/>
                  </a:lnTo>
                  <a:lnTo>
                    <a:pt x="841" y="453"/>
                  </a:lnTo>
                  <a:lnTo>
                    <a:pt x="863" y="446"/>
                  </a:lnTo>
                  <a:lnTo>
                    <a:pt x="892" y="439"/>
                  </a:lnTo>
                  <a:lnTo>
                    <a:pt x="878" y="461"/>
                  </a:lnTo>
                  <a:lnTo>
                    <a:pt x="856" y="468"/>
                  </a:lnTo>
                  <a:lnTo>
                    <a:pt x="834" y="490"/>
                  </a:lnTo>
                  <a:lnTo>
                    <a:pt x="812" y="504"/>
                  </a:lnTo>
                  <a:lnTo>
                    <a:pt x="790" y="519"/>
                  </a:lnTo>
                  <a:lnTo>
                    <a:pt x="768" y="526"/>
                  </a:lnTo>
                  <a:lnTo>
                    <a:pt x="746" y="541"/>
                  </a:lnTo>
                  <a:lnTo>
                    <a:pt x="768" y="556"/>
                  </a:lnTo>
                  <a:lnTo>
                    <a:pt x="790" y="556"/>
                  </a:lnTo>
                  <a:lnTo>
                    <a:pt x="819" y="548"/>
                  </a:lnTo>
                  <a:lnTo>
                    <a:pt x="841" y="548"/>
                  </a:lnTo>
                  <a:lnTo>
                    <a:pt x="870" y="541"/>
                  </a:lnTo>
                  <a:lnTo>
                    <a:pt x="892" y="541"/>
                  </a:lnTo>
                  <a:lnTo>
                    <a:pt x="914" y="541"/>
                  </a:lnTo>
                  <a:lnTo>
                    <a:pt x="936" y="534"/>
                  </a:lnTo>
                  <a:lnTo>
                    <a:pt x="958" y="534"/>
                  </a:lnTo>
                  <a:lnTo>
                    <a:pt x="980" y="534"/>
                  </a:lnTo>
                  <a:lnTo>
                    <a:pt x="1002" y="526"/>
                  </a:lnTo>
                  <a:lnTo>
                    <a:pt x="1024" y="526"/>
                  </a:lnTo>
                  <a:lnTo>
                    <a:pt x="1046" y="526"/>
                  </a:lnTo>
                  <a:lnTo>
                    <a:pt x="1024" y="541"/>
                  </a:lnTo>
                  <a:lnTo>
                    <a:pt x="1017" y="563"/>
                  </a:lnTo>
                  <a:lnTo>
                    <a:pt x="995" y="578"/>
                  </a:lnTo>
                  <a:lnTo>
                    <a:pt x="965" y="585"/>
                  </a:lnTo>
                  <a:lnTo>
                    <a:pt x="943" y="592"/>
                  </a:lnTo>
                  <a:lnTo>
                    <a:pt x="922" y="607"/>
                  </a:lnTo>
                  <a:lnTo>
                    <a:pt x="900" y="614"/>
                  </a:lnTo>
                  <a:lnTo>
                    <a:pt x="878" y="614"/>
                  </a:lnTo>
                  <a:lnTo>
                    <a:pt x="848" y="614"/>
                  </a:lnTo>
                  <a:lnTo>
                    <a:pt x="826" y="614"/>
                  </a:lnTo>
                  <a:lnTo>
                    <a:pt x="804" y="622"/>
                  </a:lnTo>
                  <a:lnTo>
                    <a:pt x="783" y="629"/>
                  </a:lnTo>
                  <a:lnTo>
                    <a:pt x="804" y="636"/>
                  </a:lnTo>
                  <a:lnTo>
                    <a:pt x="826" y="644"/>
                  </a:lnTo>
                  <a:lnTo>
                    <a:pt x="856" y="651"/>
                  </a:lnTo>
                  <a:lnTo>
                    <a:pt x="819" y="664"/>
                  </a:lnTo>
                  <a:lnTo>
                    <a:pt x="878" y="658"/>
                  </a:lnTo>
                  <a:lnTo>
                    <a:pt x="907" y="658"/>
                  </a:lnTo>
                  <a:lnTo>
                    <a:pt x="864" y="670"/>
                  </a:lnTo>
                  <a:lnTo>
                    <a:pt x="936" y="658"/>
                  </a:lnTo>
                  <a:lnTo>
                    <a:pt x="965" y="658"/>
                  </a:lnTo>
                  <a:lnTo>
                    <a:pt x="995" y="651"/>
                  </a:lnTo>
                  <a:lnTo>
                    <a:pt x="1017" y="651"/>
                  </a:lnTo>
                  <a:lnTo>
                    <a:pt x="1039" y="651"/>
                  </a:lnTo>
                  <a:lnTo>
                    <a:pt x="1009" y="673"/>
                  </a:lnTo>
                  <a:lnTo>
                    <a:pt x="987" y="695"/>
                  </a:lnTo>
                  <a:lnTo>
                    <a:pt x="965" y="702"/>
                  </a:lnTo>
                  <a:lnTo>
                    <a:pt x="943" y="702"/>
                  </a:lnTo>
                  <a:lnTo>
                    <a:pt x="907" y="709"/>
                  </a:lnTo>
                  <a:lnTo>
                    <a:pt x="885" y="717"/>
                  </a:lnTo>
                  <a:lnTo>
                    <a:pt x="863" y="717"/>
                  </a:lnTo>
                  <a:lnTo>
                    <a:pt x="841" y="731"/>
                  </a:lnTo>
                  <a:lnTo>
                    <a:pt x="870" y="731"/>
                  </a:lnTo>
                  <a:lnTo>
                    <a:pt x="892" y="724"/>
                  </a:lnTo>
                  <a:lnTo>
                    <a:pt x="914" y="724"/>
                  </a:lnTo>
                  <a:lnTo>
                    <a:pt x="943" y="724"/>
                  </a:lnTo>
                  <a:lnTo>
                    <a:pt x="929" y="746"/>
                  </a:lnTo>
                  <a:lnTo>
                    <a:pt x="876" y="759"/>
                  </a:lnTo>
                  <a:lnTo>
                    <a:pt x="885" y="768"/>
                  </a:lnTo>
                  <a:lnTo>
                    <a:pt x="863" y="775"/>
                  </a:lnTo>
                  <a:lnTo>
                    <a:pt x="794" y="771"/>
                  </a:lnTo>
                  <a:lnTo>
                    <a:pt x="841" y="783"/>
                  </a:lnTo>
                  <a:lnTo>
                    <a:pt x="819" y="790"/>
                  </a:lnTo>
                  <a:lnTo>
                    <a:pt x="797" y="797"/>
                  </a:lnTo>
                  <a:lnTo>
                    <a:pt x="819" y="805"/>
                  </a:lnTo>
                  <a:lnTo>
                    <a:pt x="841" y="805"/>
                  </a:lnTo>
                  <a:lnTo>
                    <a:pt x="915" y="798"/>
                  </a:lnTo>
                  <a:lnTo>
                    <a:pt x="899" y="817"/>
                  </a:lnTo>
                  <a:lnTo>
                    <a:pt x="848" y="834"/>
                  </a:lnTo>
                  <a:lnTo>
                    <a:pt x="912" y="852"/>
                  </a:lnTo>
                  <a:lnTo>
                    <a:pt x="747" y="834"/>
                  </a:lnTo>
                  <a:lnTo>
                    <a:pt x="775" y="870"/>
                  </a:lnTo>
                  <a:lnTo>
                    <a:pt x="863" y="910"/>
                  </a:lnTo>
                  <a:lnTo>
                    <a:pt x="791" y="922"/>
                  </a:lnTo>
                  <a:lnTo>
                    <a:pt x="739" y="936"/>
                  </a:lnTo>
                  <a:lnTo>
                    <a:pt x="761" y="929"/>
                  </a:lnTo>
                  <a:lnTo>
                    <a:pt x="812" y="929"/>
                  </a:lnTo>
                  <a:lnTo>
                    <a:pt x="834" y="929"/>
                  </a:lnTo>
                  <a:lnTo>
                    <a:pt x="900" y="937"/>
                  </a:lnTo>
                  <a:lnTo>
                    <a:pt x="948" y="936"/>
                  </a:lnTo>
                  <a:lnTo>
                    <a:pt x="1014" y="889"/>
                  </a:lnTo>
                  <a:lnTo>
                    <a:pt x="993" y="921"/>
                  </a:lnTo>
                  <a:lnTo>
                    <a:pt x="1073" y="879"/>
                  </a:lnTo>
                  <a:lnTo>
                    <a:pt x="1034" y="918"/>
                  </a:lnTo>
                  <a:lnTo>
                    <a:pt x="1112" y="900"/>
                  </a:lnTo>
                  <a:lnTo>
                    <a:pt x="1134" y="892"/>
                  </a:lnTo>
                  <a:lnTo>
                    <a:pt x="1156" y="885"/>
                  </a:lnTo>
                  <a:lnTo>
                    <a:pt x="1134" y="900"/>
                  </a:lnTo>
                  <a:lnTo>
                    <a:pt x="1079" y="930"/>
                  </a:lnTo>
                  <a:lnTo>
                    <a:pt x="1106" y="940"/>
                  </a:lnTo>
                  <a:lnTo>
                    <a:pt x="1046" y="944"/>
                  </a:lnTo>
                  <a:lnTo>
                    <a:pt x="1005" y="954"/>
                  </a:lnTo>
                  <a:lnTo>
                    <a:pt x="1056" y="979"/>
                  </a:lnTo>
                  <a:lnTo>
                    <a:pt x="973" y="966"/>
                  </a:lnTo>
                  <a:lnTo>
                    <a:pt x="943" y="973"/>
                  </a:lnTo>
                  <a:lnTo>
                    <a:pt x="954" y="985"/>
                  </a:lnTo>
                  <a:lnTo>
                    <a:pt x="948" y="991"/>
                  </a:lnTo>
                  <a:lnTo>
                    <a:pt x="892" y="987"/>
                  </a:lnTo>
                  <a:lnTo>
                    <a:pt x="834" y="995"/>
                  </a:lnTo>
                  <a:lnTo>
                    <a:pt x="790" y="1002"/>
                  </a:lnTo>
                  <a:lnTo>
                    <a:pt x="826" y="1009"/>
                  </a:lnTo>
                  <a:lnTo>
                    <a:pt x="848" y="1009"/>
                  </a:lnTo>
                  <a:lnTo>
                    <a:pt x="878" y="1017"/>
                  </a:lnTo>
                  <a:lnTo>
                    <a:pt x="900" y="1017"/>
                  </a:lnTo>
                  <a:lnTo>
                    <a:pt x="943" y="1017"/>
                  </a:lnTo>
                  <a:lnTo>
                    <a:pt x="973" y="1009"/>
                  </a:lnTo>
                  <a:lnTo>
                    <a:pt x="1009" y="1009"/>
                  </a:lnTo>
                  <a:lnTo>
                    <a:pt x="1039" y="1009"/>
                  </a:lnTo>
                  <a:lnTo>
                    <a:pt x="1061" y="1009"/>
                  </a:lnTo>
                  <a:lnTo>
                    <a:pt x="1082" y="1009"/>
                  </a:lnTo>
                  <a:lnTo>
                    <a:pt x="1104" y="1009"/>
                  </a:lnTo>
                  <a:lnTo>
                    <a:pt x="1082" y="1024"/>
                  </a:lnTo>
                  <a:lnTo>
                    <a:pt x="1061" y="1039"/>
                  </a:lnTo>
                  <a:lnTo>
                    <a:pt x="1031" y="1046"/>
                  </a:lnTo>
                  <a:lnTo>
                    <a:pt x="1009" y="1053"/>
                  </a:lnTo>
                  <a:lnTo>
                    <a:pt x="973" y="1068"/>
                  </a:lnTo>
                  <a:lnTo>
                    <a:pt x="943" y="1075"/>
                  </a:lnTo>
                  <a:lnTo>
                    <a:pt x="922" y="1083"/>
                  </a:lnTo>
                  <a:lnTo>
                    <a:pt x="900" y="1083"/>
                  </a:lnTo>
                  <a:lnTo>
                    <a:pt x="870" y="1083"/>
                  </a:lnTo>
                  <a:lnTo>
                    <a:pt x="848" y="1090"/>
                  </a:lnTo>
                  <a:lnTo>
                    <a:pt x="819" y="1090"/>
                  </a:lnTo>
                  <a:lnTo>
                    <a:pt x="797" y="1090"/>
                  </a:lnTo>
                  <a:lnTo>
                    <a:pt x="819" y="1105"/>
                  </a:lnTo>
                  <a:lnTo>
                    <a:pt x="870" y="1112"/>
                  </a:lnTo>
                  <a:lnTo>
                    <a:pt x="914" y="1112"/>
                  </a:lnTo>
                  <a:lnTo>
                    <a:pt x="936" y="1119"/>
                  </a:lnTo>
                  <a:lnTo>
                    <a:pt x="973" y="1119"/>
                  </a:lnTo>
                  <a:lnTo>
                    <a:pt x="969" y="1131"/>
                  </a:lnTo>
                  <a:lnTo>
                    <a:pt x="1017" y="1119"/>
                  </a:lnTo>
                  <a:lnTo>
                    <a:pt x="1025" y="1134"/>
                  </a:lnTo>
                  <a:lnTo>
                    <a:pt x="1075" y="1119"/>
                  </a:lnTo>
                  <a:lnTo>
                    <a:pt x="1097" y="1119"/>
                  </a:lnTo>
                  <a:lnTo>
                    <a:pt x="1082" y="1133"/>
                  </a:lnTo>
                  <a:lnTo>
                    <a:pt x="1119" y="1119"/>
                  </a:lnTo>
                  <a:lnTo>
                    <a:pt x="1151" y="1110"/>
                  </a:lnTo>
                  <a:lnTo>
                    <a:pt x="1119" y="1148"/>
                  </a:lnTo>
                  <a:lnTo>
                    <a:pt x="1086" y="1151"/>
                  </a:lnTo>
                  <a:lnTo>
                    <a:pt x="1050" y="1160"/>
                  </a:lnTo>
                  <a:lnTo>
                    <a:pt x="1046" y="1192"/>
                  </a:lnTo>
                  <a:lnTo>
                    <a:pt x="1019" y="1176"/>
                  </a:lnTo>
                  <a:lnTo>
                    <a:pt x="990" y="1185"/>
                  </a:lnTo>
                  <a:lnTo>
                    <a:pt x="973" y="1214"/>
                  </a:lnTo>
                  <a:lnTo>
                    <a:pt x="956" y="1173"/>
                  </a:lnTo>
                  <a:lnTo>
                    <a:pt x="885" y="1222"/>
                  </a:lnTo>
                  <a:lnTo>
                    <a:pt x="863" y="1214"/>
                  </a:lnTo>
                  <a:lnTo>
                    <a:pt x="828" y="1181"/>
                  </a:lnTo>
                  <a:lnTo>
                    <a:pt x="834" y="1200"/>
                  </a:lnTo>
                  <a:lnTo>
                    <a:pt x="812" y="1192"/>
                  </a:lnTo>
                  <a:lnTo>
                    <a:pt x="790" y="1185"/>
                  </a:lnTo>
                  <a:lnTo>
                    <a:pt x="768" y="1178"/>
                  </a:lnTo>
                  <a:lnTo>
                    <a:pt x="746" y="1178"/>
                  </a:lnTo>
                  <a:lnTo>
                    <a:pt x="768" y="1192"/>
                  </a:lnTo>
                  <a:lnTo>
                    <a:pt x="790" y="1200"/>
                  </a:lnTo>
                  <a:lnTo>
                    <a:pt x="834" y="1207"/>
                  </a:lnTo>
                  <a:lnTo>
                    <a:pt x="863" y="1214"/>
                  </a:lnTo>
                  <a:lnTo>
                    <a:pt x="951" y="1229"/>
                  </a:lnTo>
                  <a:lnTo>
                    <a:pt x="947" y="1252"/>
                  </a:lnTo>
                  <a:lnTo>
                    <a:pt x="1051" y="1240"/>
                  </a:lnTo>
                  <a:lnTo>
                    <a:pt x="974" y="1262"/>
                  </a:lnTo>
                  <a:lnTo>
                    <a:pt x="1041" y="1274"/>
                  </a:lnTo>
                  <a:lnTo>
                    <a:pt x="1133" y="1252"/>
                  </a:lnTo>
                  <a:lnTo>
                    <a:pt x="1083" y="1284"/>
                  </a:lnTo>
                  <a:lnTo>
                    <a:pt x="1148" y="1288"/>
                  </a:lnTo>
                  <a:lnTo>
                    <a:pt x="1170" y="1295"/>
                  </a:lnTo>
                  <a:lnTo>
                    <a:pt x="1214" y="1302"/>
                  </a:lnTo>
                  <a:lnTo>
                    <a:pt x="1265" y="1324"/>
                  </a:lnTo>
                  <a:lnTo>
                    <a:pt x="1243" y="1324"/>
                  </a:lnTo>
                  <a:lnTo>
                    <a:pt x="1214" y="1317"/>
                  </a:lnTo>
                  <a:lnTo>
                    <a:pt x="1178" y="1317"/>
                  </a:lnTo>
                  <a:lnTo>
                    <a:pt x="1141" y="1317"/>
                  </a:lnTo>
                  <a:lnTo>
                    <a:pt x="1152" y="1345"/>
                  </a:lnTo>
                  <a:lnTo>
                    <a:pt x="1097" y="1309"/>
                  </a:lnTo>
                  <a:lnTo>
                    <a:pt x="1086" y="1325"/>
                  </a:lnTo>
                  <a:lnTo>
                    <a:pt x="1061" y="1309"/>
                  </a:lnTo>
                  <a:lnTo>
                    <a:pt x="1031" y="1309"/>
                  </a:lnTo>
                  <a:lnTo>
                    <a:pt x="1069" y="1362"/>
                  </a:lnTo>
                  <a:lnTo>
                    <a:pt x="1023" y="1330"/>
                  </a:lnTo>
                  <a:lnTo>
                    <a:pt x="945" y="1288"/>
                  </a:lnTo>
                  <a:lnTo>
                    <a:pt x="893" y="1290"/>
                  </a:lnTo>
                  <a:lnTo>
                    <a:pt x="879" y="1259"/>
                  </a:lnTo>
                  <a:lnTo>
                    <a:pt x="866" y="1265"/>
                  </a:lnTo>
                  <a:lnTo>
                    <a:pt x="806" y="1260"/>
                  </a:lnTo>
                  <a:lnTo>
                    <a:pt x="929" y="1321"/>
                  </a:lnTo>
                  <a:lnTo>
                    <a:pt x="863" y="1339"/>
                  </a:lnTo>
                  <a:lnTo>
                    <a:pt x="986" y="1329"/>
                  </a:lnTo>
                  <a:lnTo>
                    <a:pt x="948" y="1350"/>
                  </a:lnTo>
                  <a:lnTo>
                    <a:pt x="922" y="1361"/>
                  </a:lnTo>
                  <a:lnTo>
                    <a:pt x="981" y="1362"/>
                  </a:lnTo>
                  <a:lnTo>
                    <a:pt x="1049" y="1396"/>
                  </a:lnTo>
                  <a:lnTo>
                    <a:pt x="1143" y="1387"/>
                  </a:lnTo>
                  <a:lnTo>
                    <a:pt x="1090" y="1412"/>
                  </a:lnTo>
                  <a:lnTo>
                    <a:pt x="1103" y="1411"/>
                  </a:lnTo>
                  <a:lnTo>
                    <a:pt x="1112" y="1412"/>
                  </a:lnTo>
                  <a:lnTo>
                    <a:pt x="1141" y="1419"/>
                  </a:lnTo>
                  <a:lnTo>
                    <a:pt x="1199" y="1412"/>
                  </a:lnTo>
                  <a:lnTo>
                    <a:pt x="1170" y="1419"/>
                  </a:lnTo>
                  <a:lnTo>
                    <a:pt x="1192" y="1427"/>
                  </a:lnTo>
                  <a:lnTo>
                    <a:pt x="1214" y="1427"/>
                  </a:lnTo>
                  <a:lnTo>
                    <a:pt x="1220" y="1441"/>
                  </a:lnTo>
                  <a:lnTo>
                    <a:pt x="1273" y="1441"/>
                  </a:lnTo>
                  <a:lnTo>
                    <a:pt x="1247" y="1451"/>
                  </a:lnTo>
                  <a:lnTo>
                    <a:pt x="1317" y="1463"/>
                  </a:lnTo>
                  <a:lnTo>
                    <a:pt x="1295" y="1470"/>
                  </a:lnTo>
                  <a:lnTo>
                    <a:pt x="1265" y="1470"/>
                  </a:lnTo>
                  <a:lnTo>
                    <a:pt x="1236" y="1470"/>
                  </a:lnTo>
                  <a:lnTo>
                    <a:pt x="1207" y="1456"/>
                  </a:lnTo>
                  <a:lnTo>
                    <a:pt x="1185" y="1448"/>
                  </a:lnTo>
                  <a:lnTo>
                    <a:pt x="1156" y="1441"/>
                  </a:lnTo>
                  <a:lnTo>
                    <a:pt x="1119" y="1434"/>
                  </a:lnTo>
                  <a:lnTo>
                    <a:pt x="1082" y="1427"/>
                  </a:lnTo>
                  <a:lnTo>
                    <a:pt x="1046" y="1419"/>
                  </a:lnTo>
                  <a:lnTo>
                    <a:pt x="1017" y="1412"/>
                  </a:lnTo>
                  <a:lnTo>
                    <a:pt x="980" y="1412"/>
                  </a:lnTo>
                  <a:lnTo>
                    <a:pt x="936" y="1405"/>
                  </a:lnTo>
                  <a:lnTo>
                    <a:pt x="907" y="1397"/>
                  </a:lnTo>
                  <a:lnTo>
                    <a:pt x="885" y="1390"/>
                  </a:lnTo>
                  <a:lnTo>
                    <a:pt x="863" y="1390"/>
                  </a:lnTo>
                  <a:lnTo>
                    <a:pt x="900" y="1405"/>
                  </a:lnTo>
                  <a:lnTo>
                    <a:pt x="922" y="1419"/>
                  </a:lnTo>
                  <a:lnTo>
                    <a:pt x="967" y="1422"/>
                  </a:lnTo>
                  <a:lnTo>
                    <a:pt x="943" y="1442"/>
                  </a:lnTo>
                  <a:lnTo>
                    <a:pt x="1017" y="1450"/>
                  </a:lnTo>
                  <a:lnTo>
                    <a:pt x="1053" y="1470"/>
                  </a:lnTo>
                  <a:lnTo>
                    <a:pt x="1090" y="1478"/>
                  </a:lnTo>
                  <a:lnTo>
                    <a:pt x="1127" y="1494"/>
                  </a:lnTo>
                  <a:lnTo>
                    <a:pt x="1141" y="1492"/>
                  </a:lnTo>
                  <a:lnTo>
                    <a:pt x="1170" y="1500"/>
                  </a:lnTo>
                  <a:lnTo>
                    <a:pt x="1207" y="1507"/>
                  </a:lnTo>
                  <a:lnTo>
                    <a:pt x="1258" y="1522"/>
                  </a:lnTo>
                  <a:lnTo>
                    <a:pt x="1287" y="1529"/>
                  </a:lnTo>
                  <a:lnTo>
                    <a:pt x="1317" y="1536"/>
                  </a:lnTo>
                  <a:lnTo>
                    <a:pt x="1283" y="1546"/>
                  </a:lnTo>
                  <a:lnTo>
                    <a:pt x="1197" y="1528"/>
                  </a:lnTo>
                  <a:lnTo>
                    <a:pt x="1229" y="1558"/>
                  </a:lnTo>
                  <a:lnTo>
                    <a:pt x="1149" y="1524"/>
                  </a:lnTo>
                  <a:lnTo>
                    <a:pt x="1181" y="1558"/>
                  </a:lnTo>
                  <a:lnTo>
                    <a:pt x="1079" y="1532"/>
                  </a:lnTo>
                  <a:lnTo>
                    <a:pt x="1095" y="1574"/>
                  </a:lnTo>
                  <a:lnTo>
                    <a:pt x="1017" y="1510"/>
                  </a:lnTo>
                  <a:lnTo>
                    <a:pt x="1015" y="1550"/>
                  </a:lnTo>
                  <a:lnTo>
                    <a:pt x="971" y="1502"/>
                  </a:lnTo>
                  <a:lnTo>
                    <a:pt x="965" y="1536"/>
                  </a:lnTo>
                  <a:lnTo>
                    <a:pt x="985" y="1552"/>
                  </a:lnTo>
                  <a:lnTo>
                    <a:pt x="1017" y="1551"/>
                  </a:lnTo>
                  <a:lnTo>
                    <a:pt x="1021" y="1576"/>
                  </a:lnTo>
                  <a:lnTo>
                    <a:pt x="1075" y="1573"/>
                  </a:lnTo>
                  <a:lnTo>
                    <a:pt x="1112" y="1588"/>
                  </a:lnTo>
                  <a:lnTo>
                    <a:pt x="1148" y="1595"/>
                  </a:lnTo>
                  <a:lnTo>
                    <a:pt x="1285" y="1590"/>
                  </a:lnTo>
                  <a:lnTo>
                    <a:pt x="1227" y="1612"/>
                  </a:lnTo>
                  <a:lnTo>
                    <a:pt x="1317" y="1639"/>
                  </a:lnTo>
                  <a:lnTo>
                    <a:pt x="1346" y="1639"/>
                  </a:lnTo>
                  <a:lnTo>
                    <a:pt x="1375" y="1646"/>
                  </a:lnTo>
                  <a:lnTo>
                    <a:pt x="1404" y="1653"/>
                  </a:lnTo>
                  <a:lnTo>
                    <a:pt x="1426" y="1653"/>
                  </a:lnTo>
                  <a:lnTo>
                    <a:pt x="1390" y="1661"/>
                  </a:lnTo>
                  <a:lnTo>
                    <a:pt x="1321" y="1662"/>
                  </a:lnTo>
                  <a:lnTo>
                    <a:pt x="1403" y="1694"/>
                  </a:lnTo>
                  <a:lnTo>
                    <a:pt x="1280" y="1675"/>
                  </a:lnTo>
                  <a:lnTo>
                    <a:pt x="1285" y="1706"/>
                  </a:lnTo>
                  <a:lnTo>
                    <a:pt x="1258" y="1675"/>
                  </a:lnTo>
                  <a:lnTo>
                    <a:pt x="1187" y="1659"/>
                  </a:lnTo>
                  <a:lnTo>
                    <a:pt x="1214" y="1675"/>
                  </a:lnTo>
                  <a:lnTo>
                    <a:pt x="1221" y="1700"/>
                  </a:lnTo>
                  <a:lnTo>
                    <a:pt x="1148" y="1656"/>
                  </a:lnTo>
                  <a:lnTo>
                    <a:pt x="1191" y="1706"/>
                  </a:lnTo>
                  <a:lnTo>
                    <a:pt x="1129" y="1696"/>
                  </a:lnTo>
                  <a:lnTo>
                    <a:pt x="1067" y="1629"/>
                  </a:lnTo>
                  <a:lnTo>
                    <a:pt x="1075" y="1661"/>
                  </a:lnTo>
                  <a:lnTo>
                    <a:pt x="1046" y="1653"/>
                  </a:lnTo>
                  <a:lnTo>
                    <a:pt x="995" y="1646"/>
                  </a:lnTo>
                  <a:lnTo>
                    <a:pt x="923" y="1626"/>
                  </a:lnTo>
                  <a:lnTo>
                    <a:pt x="965" y="1653"/>
                  </a:lnTo>
                  <a:lnTo>
                    <a:pt x="987" y="1661"/>
                  </a:lnTo>
                  <a:lnTo>
                    <a:pt x="1024" y="1675"/>
                  </a:lnTo>
                  <a:lnTo>
                    <a:pt x="1061" y="1683"/>
                  </a:lnTo>
                  <a:lnTo>
                    <a:pt x="1112" y="1697"/>
                  </a:lnTo>
                  <a:lnTo>
                    <a:pt x="1148" y="1712"/>
                  </a:lnTo>
                  <a:lnTo>
                    <a:pt x="1200" y="1727"/>
                  </a:lnTo>
                  <a:lnTo>
                    <a:pt x="1229" y="1734"/>
                  </a:lnTo>
                  <a:lnTo>
                    <a:pt x="1251" y="1734"/>
                  </a:lnTo>
                  <a:lnTo>
                    <a:pt x="1273" y="1741"/>
                  </a:lnTo>
                  <a:lnTo>
                    <a:pt x="1309" y="1741"/>
                  </a:lnTo>
                  <a:lnTo>
                    <a:pt x="1331" y="1749"/>
                  </a:lnTo>
                  <a:lnTo>
                    <a:pt x="1302" y="1763"/>
                  </a:lnTo>
                  <a:lnTo>
                    <a:pt x="1280" y="1770"/>
                  </a:lnTo>
                  <a:lnTo>
                    <a:pt x="1251" y="1785"/>
                  </a:lnTo>
                  <a:lnTo>
                    <a:pt x="1229" y="1785"/>
                  </a:lnTo>
                  <a:lnTo>
                    <a:pt x="1200" y="1785"/>
                  </a:lnTo>
                  <a:lnTo>
                    <a:pt x="1133" y="1770"/>
                  </a:lnTo>
                  <a:lnTo>
                    <a:pt x="1119" y="1778"/>
                  </a:lnTo>
                  <a:lnTo>
                    <a:pt x="1076" y="1749"/>
                  </a:lnTo>
                  <a:lnTo>
                    <a:pt x="1039" y="1756"/>
                  </a:lnTo>
                  <a:lnTo>
                    <a:pt x="965" y="1716"/>
                  </a:lnTo>
                  <a:lnTo>
                    <a:pt x="980" y="1741"/>
                  </a:lnTo>
                  <a:lnTo>
                    <a:pt x="905" y="1743"/>
                  </a:lnTo>
                  <a:lnTo>
                    <a:pt x="1061" y="1779"/>
                  </a:lnTo>
                  <a:lnTo>
                    <a:pt x="1068" y="1807"/>
                  </a:lnTo>
                  <a:lnTo>
                    <a:pt x="1145" y="1791"/>
                  </a:lnTo>
                  <a:lnTo>
                    <a:pt x="1141" y="1822"/>
                  </a:lnTo>
                  <a:lnTo>
                    <a:pt x="1187" y="1827"/>
                  </a:lnTo>
                  <a:lnTo>
                    <a:pt x="1200" y="1836"/>
                  </a:lnTo>
                  <a:lnTo>
                    <a:pt x="1236" y="1844"/>
                  </a:lnTo>
                  <a:lnTo>
                    <a:pt x="1207" y="1858"/>
                  </a:lnTo>
                  <a:lnTo>
                    <a:pt x="1185" y="1858"/>
                  </a:lnTo>
                  <a:lnTo>
                    <a:pt x="1141" y="1873"/>
                  </a:lnTo>
                  <a:lnTo>
                    <a:pt x="1097" y="1873"/>
                  </a:lnTo>
                  <a:lnTo>
                    <a:pt x="1134" y="1880"/>
                  </a:lnTo>
                  <a:lnTo>
                    <a:pt x="1156" y="1880"/>
                  </a:lnTo>
                  <a:lnTo>
                    <a:pt x="1192" y="1888"/>
                  </a:lnTo>
                  <a:lnTo>
                    <a:pt x="1291" y="1872"/>
                  </a:lnTo>
                  <a:lnTo>
                    <a:pt x="1255" y="1902"/>
                  </a:lnTo>
                  <a:lnTo>
                    <a:pt x="1299" y="1880"/>
                  </a:lnTo>
                  <a:lnTo>
                    <a:pt x="1251" y="1918"/>
                  </a:lnTo>
                  <a:lnTo>
                    <a:pt x="1307" y="1922"/>
                  </a:lnTo>
                  <a:lnTo>
                    <a:pt x="1375" y="1910"/>
                  </a:lnTo>
                  <a:lnTo>
                    <a:pt x="1397" y="1917"/>
                  </a:lnTo>
                  <a:lnTo>
                    <a:pt x="1419" y="1917"/>
                  </a:lnTo>
                  <a:lnTo>
                    <a:pt x="1397" y="1939"/>
                  </a:lnTo>
                  <a:lnTo>
                    <a:pt x="1375" y="1939"/>
                  </a:lnTo>
                  <a:lnTo>
                    <a:pt x="1327" y="1940"/>
                  </a:lnTo>
                  <a:lnTo>
                    <a:pt x="1324" y="1961"/>
                  </a:lnTo>
                  <a:lnTo>
                    <a:pt x="1259" y="1936"/>
                  </a:lnTo>
                  <a:lnTo>
                    <a:pt x="1273" y="1961"/>
                  </a:lnTo>
                  <a:lnTo>
                    <a:pt x="1229" y="1938"/>
                  </a:lnTo>
                  <a:lnTo>
                    <a:pt x="1223" y="1976"/>
                  </a:lnTo>
                  <a:lnTo>
                    <a:pt x="1145" y="1924"/>
                  </a:lnTo>
                  <a:lnTo>
                    <a:pt x="1163" y="1953"/>
                  </a:lnTo>
                  <a:lnTo>
                    <a:pt x="1111" y="1924"/>
                  </a:lnTo>
                  <a:lnTo>
                    <a:pt x="639" y="1866"/>
                  </a:lnTo>
                  <a:lnTo>
                    <a:pt x="278" y="1631"/>
                  </a:lnTo>
                  <a:lnTo>
                    <a:pt x="278" y="16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599F-7EA0-4E41-AB56-E4F0074C8F1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799320" y="187308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0" y="2824200"/>
            <a:ext cx="9172440" cy="4056120"/>
            <a:chOff x="0" y="2824200"/>
            <a:chExt cx="9172440" cy="4056120"/>
          </a:xfrm>
        </p:grpSpPr>
        <p:sp>
          <p:nvSpPr>
            <p:cNvPr id="1309" name=""/>
            <p:cNvSpPr/>
            <p:nvPr/>
          </p:nvSpPr>
          <p:spPr>
            <a:xfrm>
              <a:off x="0" y="5187960"/>
              <a:ext cx="9172440" cy="1692360"/>
            </a:xfrm>
            <a:custGeom>
              <a:avLst/>
              <a:gdLst/>
              <a:ahLst/>
              <a:rect l="l" t="t" r="r" b="b"/>
              <a:pathLst>
                <a:path w="5778" h="1066">
                  <a:moveTo>
                    <a:pt x="5777" y="1065"/>
                  </a:moveTo>
                  <a:lnTo>
                    <a:pt x="0" y="1065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2"/>
                  </a:lnTo>
                  <a:lnTo>
                    <a:pt x="342" y="179"/>
                  </a:lnTo>
                  <a:lnTo>
                    <a:pt x="489" y="260"/>
                  </a:lnTo>
                  <a:lnTo>
                    <a:pt x="665" y="246"/>
                  </a:lnTo>
                  <a:lnTo>
                    <a:pt x="760" y="275"/>
                  </a:lnTo>
                  <a:lnTo>
                    <a:pt x="877" y="336"/>
                  </a:lnTo>
                  <a:lnTo>
                    <a:pt x="988" y="379"/>
                  </a:lnTo>
                  <a:lnTo>
                    <a:pt x="1047" y="453"/>
                  </a:lnTo>
                  <a:lnTo>
                    <a:pt x="1091" y="444"/>
                  </a:lnTo>
                  <a:lnTo>
                    <a:pt x="1113" y="444"/>
                  </a:lnTo>
                  <a:lnTo>
                    <a:pt x="1135" y="435"/>
                  </a:lnTo>
                  <a:lnTo>
                    <a:pt x="1230" y="490"/>
                  </a:lnTo>
                  <a:lnTo>
                    <a:pt x="1274" y="508"/>
                  </a:lnTo>
                  <a:lnTo>
                    <a:pt x="1296" y="508"/>
                  </a:lnTo>
                  <a:lnTo>
                    <a:pt x="1318" y="508"/>
                  </a:lnTo>
                  <a:lnTo>
                    <a:pt x="1340" y="535"/>
                  </a:lnTo>
                  <a:lnTo>
                    <a:pt x="1384" y="563"/>
                  </a:lnTo>
                  <a:lnTo>
                    <a:pt x="1406" y="572"/>
                  </a:lnTo>
                  <a:lnTo>
                    <a:pt x="1465" y="636"/>
                  </a:lnTo>
                  <a:lnTo>
                    <a:pt x="1516" y="645"/>
                  </a:lnTo>
                  <a:lnTo>
                    <a:pt x="1589" y="610"/>
                  </a:lnTo>
                  <a:lnTo>
                    <a:pt x="1649" y="587"/>
                  </a:lnTo>
                  <a:lnTo>
                    <a:pt x="1733" y="614"/>
                  </a:lnTo>
                  <a:lnTo>
                    <a:pt x="1744" y="663"/>
                  </a:lnTo>
                  <a:lnTo>
                    <a:pt x="1766" y="653"/>
                  </a:lnTo>
                  <a:lnTo>
                    <a:pt x="1788" y="653"/>
                  </a:lnTo>
                  <a:lnTo>
                    <a:pt x="1817" y="645"/>
                  </a:lnTo>
                  <a:lnTo>
                    <a:pt x="1839" y="636"/>
                  </a:lnTo>
                  <a:lnTo>
                    <a:pt x="1957" y="518"/>
                  </a:lnTo>
                  <a:lnTo>
                    <a:pt x="2070" y="463"/>
                  </a:lnTo>
                  <a:lnTo>
                    <a:pt x="2070" y="463"/>
                  </a:lnTo>
                  <a:lnTo>
                    <a:pt x="2132" y="492"/>
                  </a:lnTo>
                  <a:lnTo>
                    <a:pt x="2169" y="499"/>
                  </a:lnTo>
                  <a:lnTo>
                    <a:pt x="2206" y="484"/>
                  </a:lnTo>
                  <a:lnTo>
                    <a:pt x="2265" y="477"/>
                  </a:lnTo>
                  <a:lnTo>
                    <a:pt x="2353" y="492"/>
                  </a:lnTo>
                  <a:lnTo>
                    <a:pt x="2419" y="506"/>
                  </a:lnTo>
                  <a:lnTo>
                    <a:pt x="2463" y="506"/>
                  </a:lnTo>
                  <a:lnTo>
                    <a:pt x="2503" y="513"/>
                  </a:lnTo>
                  <a:lnTo>
                    <a:pt x="2554" y="570"/>
                  </a:lnTo>
                  <a:lnTo>
                    <a:pt x="2542" y="626"/>
                  </a:lnTo>
                  <a:lnTo>
                    <a:pt x="2603" y="642"/>
                  </a:lnTo>
                  <a:lnTo>
                    <a:pt x="2639" y="636"/>
                  </a:lnTo>
                  <a:lnTo>
                    <a:pt x="2696" y="614"/>
                  </a:lnTo>
                  <a:lnTo>
                    <a:pt x="2699" y="582"/>
                  </a:lnTo>
                  <a:lnTo>
                    <a:pt x="2744" y="564"/>
                  </a:lnTo>
                  <a:lnTo>
                    <a:pt x="2792" y="564"/>
                  </a:lnTo>
                  <a:lnTo>
                    <a:pt x="2825" y="591"/>
                  </a:lnTo>
                  <a:lnTo>
                    <a:pt x="2876" y="582"/>
                  </a:lnTo>
                  <a:lnTo>
                    <a:pt x="2889" y="564"/>
                  </a:lnTo>
                  <a:lnTo>
                    <a:pt x="2985" y="566"/>
                  </a:lnTo>
                  <a:lnTo>
                    <a:pt x="3015" y="560"/>
                  </a:lnTo>
                  <a:lnTo>
                    <a:pt x="3060" y="558"/>
                  </a:lnTo>
                  <a:lnTo>
                    <a:pt x="3138" y="545"/>
                  </a:lnTo>
                  <a:lnTo>
                    <a:pt x="3159" y="548"/>
                  </a:lnTo>
                  <a:lnTo>
                    <a:pt x="3270" y="545"/>
                  </a:lnTo>
                  <a:lnTo>
                    <a:pt x="3292" y="526"/>
                  </a:lnTo>
                  <a:lnTo>
                    <a:pt x="3307" y="499"/>
                  </a:lnTo>
                  <a:lnTo>
                    <a:pt x="3322" y="472"/>
                  </a:lnTo>
                  <a:lnTo>
                    <a:pt x="3344" y="453"/>
                  </a:lnTo>
                  <a:lnTo>
                    <a:pt x="3336" y="454"/>
                  </a:lnTo>
                  <a:lnTo>
                    <a:pt x="3395" y="424"/>
                  </a:lnTo>
                  <a:lnTo>
                    <a:pt x="3453" y="364"/>
                  </a:lnTo>
                  <a:lnTo>
                    <a:pt x="3453" y="381"/>
                  </a:lnTo>
                  <a:lnTo>
                    <a:pt x="3483" y="342"/>
                  </a:lnTo>
                  <a:lnTo>
                    <a:pt x="3645" y="364"/>
                  </a:lnTo>
                  <a:lnTo>
                    <a:pt x="3803" y="413"/>
                  </a:lnTo>
                  <a:lnTo>
                    <a:pt x="3948" y="463"/>
                  </a:lnTo>
                  <a:lnTo>
                    <a:pt x="4077" y="444"/>
                  </a:lnTo>
                  <a:lnTo>
                    <a:pt x="4106" y="444"/>
                  </a:lnTo>
                  <a:lnTo>
                    <a:pt x="4136" y="444"/>
                  </a:lnTo>
                  <a:lnTo>
                    <a:pt x="4158" y="435"/>
                  </a:lnTo>
                  <a:lnTo>
                    <a:pt x="4181" y="427"/>
                  </a:lnTo>
                  <a:lnTo>
                    <a:pt x="4203" y="417"/>
                  </a:lnTo>
                  <a:lnTo>
                    <a:pt x="4224" y="399"/>
                  </a:lnTo>
                  <a:lnTo>
                    <a:pt x="4268" y="427"/>
                  </a:lnTo>
                  <a:lnTo>
                    <a:pt x="4290" y="417"/>
                  </a:lnTo>
                  <a:lnTo>
                    <a:pt x="4356" y="389"/>
                  </a:lnTo>
                  <a:lnTo>
                    <a:pt x="4400" y="381"/>
                  </a:lnTo>
                  <a:lnTo>
                    <a:pt x="4451" y="389"/>
                  </a:lnTo>
                  <a:lnTo>
                    <a:pt x="4473" y="399"/>
                  </a:lnTo>
                  <a:lnTo>
                    <a:pt x="4518" y="506"/>
                  </a:lnTo>
                  <a:lnTo>
                    <a:pt x="4621" y="529"/>
                  </a:lnTo>
                  <a:lnTo>
                    <a:pt x="4745" y="499"/>
                  </a:lnTo>
                  <a:lnTo>
                    <a:pt x="4951" y="394"/>
                  </a:lnTo>
                  <a:lnTo>
                    <a:pt x="5060" y="409"/>
                  </a:lnTo>
                  <a:lnTo>
                    <a:pt x="5157" y="484"/>
                  </a:lnTo>
                  <a:lnTo>
                    <a:pt x="5237" y="490"/>
                  </a:lnTo>
                  <a:lnTo>
                    <a:pt x="5303" y="513"/>
                  </a:lnTo>
                  <a:lnTo>
                    <a:pt x="5347" y="454"/>
                  </a:lnTo>
                  <a:lnTo>
                    <a:pt x="5420" y="454"/>
                  </a:lnTo>
                  <a:lnTo>
                    <a:pt x="5479" y="462"/>
                  </a:lnTo>
                  <a:lnTo>
                    <a:pt x="5633" y="424"/>
                  </a:lnTo>
                  <a:lnTo>
                    <a:pt x="5772" y="4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0" y="2824200"/>
              <a:ext cx="1092240" cy="2801880"/>
            </a:xfrm>
            <a:custGeom>
              <a:avLst/>
              <a:gdLst/>
              <a:ahLst/>
              <a:rect l="l" t="t" r="r" b="b"/>
              <a:pathLst>
                <a:path w="688" h="1765">
                  <a:moveTo>
                    <a:pt x="0" y="222"/>
                  </a:moveTo>
                  <a:lnTo>
                    <a:pt x="20" y="193"/>
                  </a:lnTo>
                  <a:lnTo>
                    <a:pt x="0" y="222"/>
                  </a:lnTo>
                  <a:lnTo>
                    <a:pt x="34" y="222"/>
                  </a:lnTo>
                  <a:lnTo>
                    <a:pt x="56" y="238"/>
                  </a:lnTo>
                  <a:lnTo>
                    <a:pt x="63" y="260"/>
                  </a:lnTo>
                  <a:lnTo>
                    <a:pt x="85" y="275"/>
                  </a:lnTo>
                  <a:lnTo>
                    <a:pt x="85" y="253"/>
                  </a:lnTo>
                  <a:lnTo>
                    <a:pt x="63" y="230"/>
                  </a:lnTo>
                  <a:lnTo>
                    <a:pt x="49" y="208"/>
                  </a:lnTo>
                  <a:lnTo>
                    <a:pt x="49" y="186"/>
                  </a:lnTo>
                  <a:lnTo>
                    <a:pt x="71" y="193"/>
                  </a:lnTo>
                  <a:lnTo>
                    <a:pt x="93" y="208"/>
                  </a:lnTo>
                  <a:lnTo>
                    <a:pt x="93" y="186"/>
                  </a:lnTo>
                  <a:lnTo>
                    <a:pt x="71" y="170"/>
                  </a:lnTo>
                  <a:lnTo>
                    <a:pt x="63" y="148"/>
                  </a:lnTo>
                  <a:lnTo>
                    <a:pt x="63" y="126"/>
                  </a:lnTo>
                  <a:lnTo>
                    <a:pt x="63" y="103"/>
                  </a:lnTo>
                  <a:lnTo>
                    <a:pt x="41" y="81"/>
                  </a:lnTo>
                  <a:lnTo>
                    <a:pt x="63" y="96"/>
                  </a:lnTo>
                  <a:lnTo>
                    <a:pt x="85" y="111"/>
                  </a:lnTo>
                  <a:lnTo>
                    <a:pt x="100" y="133"/>
                  </a:lnTo>
                  <a:lnTo>
                    <a:pt x="107" y="111"/>
                  </a:lnTo>
                  <a:lnTo>
                    <a:pt x="107" y="89"/>
                  </a:lnTo>
                  <a:lnTo>
                    <a:pt x="107" y="67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7"/>
                  </a:lnTo>
                  <a:lnTo>
                    <a:pt x="122" y="89"/>
                  </a:lnTo>
                  <a:lnTo>
                    <a:pt x="137" y="111"/>
                  </a:lnTo>
                  <a:lnTo>
                    <a:pt x="159" y="103"/>
                  </a:lnTo>
                  <a:lnTo>
                    <a:pt x="173" y="81"/>
                  </a:lnTo>
                  <a:lnTo>
                    <a:pt x="195" y="67"/>
                  </a:lnTo>
                  <a:lnTo>
                    <a:pt x="180" y="89"/>
                  </a:lnTo>
                  <a:lnTo>
                    <a:pt x="166" y="111"/>
                  </a:lnTo>
                  <a:lnTo>
                    <a:pt x="159" y="133"/>
                  </a:lnTo>
                  <a:lnTo>
                    <a:pt x="144" y="155"/>
                  </a:lnTo>
                  <a:lnTo>
                    <a:pt x="166" y="163"/>
                  </a:lnTo>
                  <a:lnTo>
                    <a:pt x="180" y="141"/>
                  </a:lnTo>
                  <a:lnTo>
                    <a:pt x="202" y="141"/>
                  </a:lnTo>
                  <a:lnTo>
                    <a:pt x="224" y="133"/>
                  </a:lnTo>
                  <a:lnTo>
                    <a:pt x="210" y="155"/>
                  </a:lnTo>
                  <a:lnTo>
                    <a:pt x="188" y="178"/>
                  </a:lnTo>
                  <a:lnTo>
                    <a:pt x="166" y="200"/>
                  </a:lnTo>
                  <a:lnTo>
                    <a:pt x="144" y="222"/>
                  </a:lnTo>
                  <a:lnTo>
                    <a:pt x="173" y="230"/>
                  </a:lnTo>
                  <a:lnTo>
                    <a:pt x="195" y="222"/>
                  </a:lnTo>
                  <a:lnTo>
                    <a:pt x="217" y="215"/>
                  </a:lnTo>
                  <a:lnTo>
                    <a:pt x="239" y="215"/>
                  </a:lnTo>
                  <a:lnTo>
                    <a:pt x="261" y="208"/>
                  </a:lnTo>
                  <a:lnTo>
                    <a:pt x="290" y="208"/>
                  </a:lnTo>
                  <a:lnTo>
                    <a:pt x="268" y="222"/>
                  </a:lnTo>
                  <a:lnTo>
                    <a:pt x="246" y="230"/>
                  </a:lnTo>
                  <a:lnTo>
                    <a:pt x="232" y="253"/>
                  </a:lnTo>
                  <a:lnTo>
                    <a:pt x="210" y="275"/>
                  </a:lnTo>
                  <a:lnTo>
                    <a:pt x="188" y="282"/>
                  </a:lnTo>
                  <a:lnTo>
                    <a:pt x="210" y="282"/>
                  </a:lnTo>
                  <a:lnTo>
                    <a:pt x="232" y="275"/>
                  </a:lnTo>
                  <a:lnTo>
                    <a:pt x="254" y="267"/>
                  </a:lnTo>
                  <a:lnTo>
                    <a:pt x="283" y="260"/>
                  </a:lnTo>
                  <a:lnTo>
                    <a:pt x="305" y="260"/>
                  </a:lnTo>
                  <a:lnTo>
                    <a:pt x="290" y="282"/>
                  </a:lnTo>
                  <a:lnTo>
                    <a:pt x="268" y="289"/>
                  </a:lnTo>
                  <a:lnTo>
                    <a:pt x="246" y="312"/>
                  </a:lnTo>
                  <a:lnTo>
                    <a:pt x="224" y="319"/>
                  </a:lnTo>
                  <a:lnTo>
                    <a:pt x="202" y="334"/>
                  </a:lnTo>
                  <a:lnTo>
                    <a:pt x="180" y="341"/>
                  </a:lnTo>
                  <a:lnTo>
                    <a:pt x="166" y="364"/>
                  </a:lnTo>
                  <a:lnTo>
                    <a:pt x="202" y="357"/>
                  </a:lnTo>
                  <a:lnTo>
                    <a:pt x="232" y="349"/>
                  </a:lnTo>
                  <a:lnTo>
                    <a:pt x="261" y="349"/>
                  </a:lnTo>
                  <a:lnTo>
                    <a:pt x="239" y="372"/>
                  </a:lnTo>
                  <a:lnTo>
                    <a:pt x="217" y="386"/>
                  </a:lnTo>
                  <a:lnTo>
                    <a:pt x="195" y="401"/>
                  </a:lnTo>
                  <a:lnTo>
                    <a:pt x="217" y="408"/>
                  </a:lnTo>
                  <a:lnTo>
                    <a:pt x="239" y="408"/>
                  </a:lnTo>
                  <a:lnTo>
                    <a:pt x="261" y="408"/>
                  </a:lnTo>
                  <a:lnTo>
                    <a:pt x="283" y="401"/>
                  </a:lnTo>
                  <a:lnTo>
                    <a:pt x="305" y="394"/>
                  </a:lnTo>
                  <a:lnTo>
                    <a:pt x="327" y="386"/>
                  </a:lnTo>
                  <a:lnTo>
                    <a:pt x="350" y="379"/>
                  </a:lnTo>
                  <a:lnTo>
                    <a:pt x="341" y="401"/>
                  </a:lnTo>
                  <a:lnTo>
                    <a:pt x="319" y="417"/>
                  </a:lnTo>
                  <a:lnTo>
                    <a:pt x="298" y="431"/>
                  </a:lnTo>
                  <a:lnTo>
                    <a:pt x="276" y="438"/>
                  </a:lnTo>
                  <a:lnTo>
                    <a:pt x="254" y="446"/>
                  </a:lnTo>
                  <a:lnTo>
                    <a:pt x="232" y="453"/>
                  </a:lnTo>
                  <a:lnTo>
                    <a:pt x="210" y="468"/>
                  </a:lnTo>
                  <a:lnTo>
                    <a:pt x="188" y="476"/>
                  </a:lnTo>
                  <a:lnTo>
                    <a:pt x="166" y="498"/>
                  </a:lnTo>
                  <a:lnTo>
                    <a:pt x="188" y="498"/>
                  </a:lnTo>
                  <a:lnTo>
                    <a:pt x="210" y="491"/>
                  </a:lnTo>
                  <a:lnTo>
                    <a:pt x="232" y="483"/>
                  </a:lnTo>
                  <a:lnTo>
                    <a:pt x="254" y="483"/>
                  </a:lnTo>
                  <a:lnTo>
                    <a:pt x="276" y="483"/>
                  </a:lnTo>
                  <a:lnTo>
                    <a:pt x="246" y="505"/>
                  </a:lnTo>
                  <a:lnTo>
                    <a:pt x="224" y="527"/>
                  </a:lnTo>
                  <a:lnTo>
                    <a:pt x="202" y="543"/>
                  </a:lnTo>
                  <a:lnTo>
                    <a:pt x="180" y="550"/>
                  </a:lnTo>
                  <a:lnTo>
                    <a:pt x="202" y="550"/>
                  </a:lnTo>
                  <a:lnTo>
                    <a:pt x="224" y="558"/>
                  </a:lnTo>
                  <a:lnTo>
                    <a:pt x="232" y="580"/>
                  </a:lnTo>
                  <a:lnTo>
                    <a:pt x="217" y="602"/>
                  </a:lnTo>
                  <a:lnTo>
                    <a:pt x="195" y="624"/>
                  </a:lnTo>
                  <a:lnTo>
                    <a:pt x="173" y="639"/>
                  </a:lnTo>
                  <a:lnTo>
                    <a:pt x="195" y="647"/>
                  </a:lnTo>
                  <a:lnTo>
                    <a:pt x="217" y="647"/>
                  </a:lnTo>
                  <a:lnTo>
                    <a:pt x="239" y="639"/>
                  </a:lnTo>
                  <a:lnTo>
                    <a:pt x="268" y="632"/>
                  </a:lnTo>
                  <a:lnTo>
                    <a:pt x="298" y="624"/>
                  </a:lnTo>
                  <a:lnTo>
                    <a:pt x="327" y="624"/>
                  </a:lnTo>
                  <a:lnTo>
                    <a:pt x="357" y="617"/>
                  </a:lnTo>
                  <a:lnTo>
                    <a:pt x="379" y="610"/>
                  </a:lnTo>
                  <a:lnTo>
                    <a:pt x="401" y="588"/>
                  </a:lnTo>
                  <a:lnTo>
                    <a:pt x="423" y="580"/>
                  </a:lnTo>
                  <a:lnTo>
                    <a:pt x="445" y="565"/>
                  </a:lnTo>
                  <a:lnTo>
                    <a:pt x="445" y="588"/>
                  </a:lnTo>
                  <a:lnTo>
                    <a:pt x="423" y="610"/>
                  </a:lnTo>
                  <a:lnTo>
                    <a:pt x="401" y="624"/>
                  </a:lnTo>
                  <a:lnTo>
                    <a:pt x="372" y="639"/>
                  </a:lnTo>
                  <a:lnTo>
                    <a:pt x="350" y="655"/>
                  </a:lnTo>
                  <a:lnTo>
                    <a:pt x="327" y="662"/>
                  </a:lnTo>
                  <a:lnTo>
                    <a:pt x="305" y="669"/>
                  </a:lnTo>
                  <a:lnTo>
                    <a:pt x="283" y="677"/>
                  </a:lnTo>
                  <a:lnTo>
                    <a:pt x="254" y="691"/>
                  </a:lnTo>
                  <a:lnTo>
                    <a:pt x="232" y="699"/>
                  </a:lnTo>
                  <a:lnTo>
                    <a:pt x="210" y="707"/>
                  </a:lnTo>
                  <a:lnTo>
                    <a:pt x="232" y="714"/>
                  </a:lnTo>
                  <a:lnTo>
                    <a:pt x="261" y="707"/>
                  </a:lnTo>
                  <a:lnTo>
                    <a:pt x="290" y="699"/>
                  </a:lnTo>
                  <a:lnTo>
                    <a:pt x="312" y="691"/>
                  </a:lnTo>
                  <a:lnTo>
                    <a:pt x="341" y="684"/>
                  </a:lnTo>
                  <a:lnTo>
                    <a:pt x="364" y="677"/>
                  </a:lnTo>
                  <a:lnTo>
                    <a:pt x="394" y="669"/>
                  </a:lnTo>
                  <a:lnTo>
                    <a:pt x="416" y="655"/>
                  </a:lnTo>
                  <a:lnTo>
                    <a:pt x="438" y="647"/>
                  </a:lnTo>
                  <a:lnTo>
                    <a:pt x="467" y="639"/>
                  </a:lnTo>
                  <a:lnTo>
                    <a:pt x="459" y="662"/>
                  </a:lnTo>
                  <a:lnTo>
                    <a:pt x="430" y="684"/>
                  </a:lnTo>
                  <a:lnTo>
                    <a:pt x="408" y="699"/>
                  </a:lnTo>
                  <a:lnTo>
                    <a:pt x="386" y="722"/>
                  </a:lnTo>
                  <a:lnTo>
                    <a:pt x="357" y="729"/>
                  </a:lnTo>
                  <a:lnTo>
                    <a:pt x="327" y="736"/>
                  </a:lnTo>
                  <a:lnTo>
                    <a:pt x="298" y="744"/>
                  </a:lnTo>
                  <a:lnTo>
                    <a:pt x="276" y="751"/>
                  </a:lnTo>
                  <a:lnTo>
                    <a:pt x="254" y="758"/>
                  </a:lnTo>
                  <a:lnTo>
                    <a:pt x="232" y="758"/>
                  </a:lnTo>
                  <a:lnTo>
                    <a:pt x="210" y="766"/>
                  </a:lnTo>
                  <a:lnTo>
                    <a:pt x="239" y="758"/>
                  </a:lnTo>
                  <a:lnTo>
                    <a:pt x="261" y="758"/>
                  </a:lnTo>
                  <a:lnTo>
                    <a:pt x="283" y="751"/>
                  </a:lnTo>
                  <a:lnTo>
                    <a:pt x="305" y="751"/>
                  </a:lnTo>
                  <a:lnTo>
                    <a:pt x="334" y="751"/>
                  </a:lnTo>
                  <a:lnTo>
                    <a:pt x="364" y="751"/>
                  </a:lnTo>
                  <a:lnTo>
                    <a:pt x="341" y="766"/>
                  </a:lnTo>
                  <a:lnTo>
                    <a:pt x="319" y="781"/>
                  </a:lnTo>
                  <a:lnTo>
                    <a:pt x="305" y="803"/>
                  </a:lnTo>
                  <a:lnTo>
                    <a:pt x="298" y="826"/>
                  </a:lnTo>
                  <a:lnTo>
                    <a:pt x="276" y="833"/>
                  </a:lnTo>
                  <a:lnTo>
                    <a:pt x="254" y="841"/>
                  </a:lnTo>
                  <a:lnTo>
                    <a:pt x="290" y="841"/>
                  </a:lnTo>
                  <a:lnTo>
                    <a:pt x="312" y="841"/>
                  </a:lnTo>
                  <a:lnTo>
                    <a:pt x="341" y="833"/>
                  </a:lnTo>
                  <a:lnTo>
                    <a:pt x="364" y="833"/>
                  </a:lnTo>
                  <a:lnTo>
                    <a:pt x="341" y="855"/>
                  </a:lnTo>
                  <a:lnTo>
                    <a:pt x="319" y="877"/>
                  </a:lnTo>
                  <a:lnTo>
                    <a:pt x="298" y="900"/>
                  </a:lnTo>
                  <a:lnTo>
                    <a:pt x="276" y="922"/>
                  </a:lnTo>
                  <a:lnTo>
                    <a:pt x="319" y="929"/>
                  </a:lnTo>
                  <a:lnTo>
                    <a:pt x="341" y="929"/>
                  </a:lnTo>
                  <a:lnTo>
                    <a:pt x="364" y="922"/>
                  </a:lnTo>
                  <a:lnTo>
                    <a:pt x="401" y="915"/>
                  </a:lnTo>
                  <a:lnTo>
                    <a:pt x="423" y="915"/>
                  </a:lnTo>
                  <a:lnTo>
                    <a:pt x="452" y="908"/>
                  </a:lnTo>
                  <a:lnTo>
                    <a:pt x="481" y="900"/>
                  </a:lnTo>
                  <a:lnTo>
                    <a:pt x="503" y="893"/>
                  </a:lnTo>
                  <a:lnTo>
                    <a:pt x="525" y="886"/>
                  </a:lnTo>
                  <a:lnTo>
                    <a:pt x="547" y="877"/>
                  </a:lnTo>
                  <a:lnTo>
                    <a:pt x="569" y="870"/>
                  </a:lnTo>
                  <a:lnTo>
                    <a:pt x="598" y="870"/>
                  </a:lnTo>
                  <a:lnTo>
                    <a:pt x="577" y="893"/>
                  </a:lnTo>
                  <a:lnTo>
                    <a:pt x="547" y="915"/>
                  </a:lnTo>
                  <a:lnTo>
                    <a:pt x="533" y="937"/>
                  </a:lnTo>
                  <a:lnTo>
                    <a:pt x="511" y="945"/>
                  </a:lnTo>
                  <a:lnTo>
                    <a:pt x="489" y="960"/>
                  </a:lnTo>
                  <a:lnTo>
                    <a:pt x="459" y="967"/>
                  </a:lnTo>
                  <a:lnTo>
                    <a:pt x="438" y="974"/>
                  </a:lnTo>
                  <a:lnTo>
                    <a:pt x="416" y="982"/>
                  </a:lnTo>
                  <a:lnTo>
                    <a:pt x="394" y="989"/>
                  </a:lnTo>
                  <a:lnTo>
                    <a:pt x="372" y="1005"/>
                  </a:lnTo>
                  <a:lnTo>
                    <a:pt x="350" y="1012"/>
                  </a:lnTo>
                  <a:lnTo>
                    <a:pt x="327" y="1019"/>
                  </a:lnTo>
                  <a:lnTo>
                    <a:pt x="305" y="1027"/>
                  </a:lnTo>
                  <a:lnTo>
                    <a:pt x="283" y="1027"/>
                  </a:lnTo>
                  <a:lnTo>
                    <a:pt x="261" y="1034"/>
                  </a:lnTo>
                  <a:lnTo>
                    <a:pt x="239" y="1049"/>
                  </a:lnTo>
                  <a:lnTo>
                    <a:pt x="261" y="1049"/>
                  </a:lnTo>
                  <a:lnTo>
                    <a:pt x="283" y="1049"/>
                  </a:lnTo>
                  <a:lnTo>
                    <a:pt x="305" y="1041"/>
                  </a:lnTo>
                  <a:lnTo>
                    <a:pt x="341" y="1034"/>
                  </a:lnTo>
                  <a:lnTo>
                    <a:pt x="364" y="1034"/>
                  </a:lnTo>
                  <a:lnTo>
                    <a:pt x="386" y="1027"/>
                  </a:lnTo>
                  <a:lnTo>
                    <a:pt x="416" y="1019"/>
                  </a:lnTo>
                  <a:lnTo>
                    <a:pt x="438" y="1019"/>
                  </a:lnTo>
                  <a:lnTo>
                    <a:pt x="459" y="1012"/>
                  </a:lnTo>
                  <a:lnTo>
                    <a:pt x="467" y="1034"/>
                  </a:lnTo>
                  <a:lnTo>
                    <a:pt x="445" y="1041"/>
                  </a:lnTo>
                  <a:lnTo>
                    <a:pt x="416" y="1049"/>
                  </a:lnTo>
                  <a:lnTo>
                    <a:pt x="394" y="1064"/>
                  </a:lnTo>
                  <a:lnTo>
                    <a:pt x="364" y="1079"/>
                  </a:lnTo>
                  <a:lnTo>
                    <a:pt x="341" y="1086"/>
                  </a:lnTo>
                  <a:lnTo>
                    <a:pt x="319" y="1093"/>
                  </a:lnTo>
                  <a:lnTo>
                    <a:pt x="298" y="1086"/>
                  </a:lnTo>
                  <a:lnTo>
                    <a:pt x="283" y="1108"/>
                  </a:lnTo>
                  <a:lnTo>
                    <a:pt x="312" y="1115"/>
                  </a:lnTo>
                  <a:lnTo>
                    <a:pt x="341" y="1115"/>
                  </a:lnTo>
                  <a:lnTo>
                    <a:pt x="364" y="1115"/>
                  </a:lnTo>
                  <a:lnTo>
                    <a:pt x="394" y="1108"/>
                  </a:lnTo>
                  <a:lnTo>
                    <a:pt x="416" y="1108"/>
                  </a:lnTo>
                  <a:lnTo>
                    <a:pt x="438" y="1101"/>
                  </a:lnTo>
                  <a:lnTo>
                    <a:pt x="467" y="1086"/>
                  </a:lnTo>
                  <a:lnTo>
                    <a:pt x="489" y="1079"/>
                  </a:lnTo>
                  <a:lnTo>
                    <a:pt x="518" y="1064"/>
                  </a:lnTo>
                  <a:lnTo>
                    <a:pt x="540" y="1056"/>
                  </a:lnTo>
                  <a:lnTo>
                    <a:pt x="511" y="1086"/>
                  </a:lnTo>
                  <a:lnTo>
                    <a:pt x="489" y="1108"/>
                  </a:lnTo>
                  <a:lnTo>
                    <a:pt x="467" y="1131"/>
                  </a:lnTo>
                  <a:lnTo>
                    <a:pt x="445" y="1146"/>
                  </a:lnTo>
                  <a:lnTo>
                    <a:pt x="416" y="1168"/>
                  </a:lnTo>
                  <a:lnTo>
                    <a:pt x="386" y="1183"/>
                  </a:lnTo>
                  <a:lnTo>
                    <a:pt x="357" y="1198"/>
                  </a:lnTo>
                  <a:lnTo>
                    <a:pt x="334" y="1205"/>
                  </a:lnTo>
                  <a:lnTo>
                    <a:pt x="312" y="1213"/>
                  </a:lnTo>
                  <a:lnTo>
                    <a:pt x="341" y="1213"/>
                  </a:lnTo>
                  <a:lnTo>
                    <a:pt x="364" y="1213"/>
                  </a:lnTo>
                  <a:lnTo>
                    <a:pt x="386" y="1213"/>
                  </a:lnTo>
                  <a:lnTo>
                    <a:pt x="416" y="1205"/>
                  </a:lnTo>
                  <a:lnTo>
                    <a:pt x="438" y="1205"/>
                  </a:lnTo>
                  <a:lnTo>
                    <a:pt x="459" y="1205"/>
                  </a:lnTo>
                  <a:lnTo>
                    <a:pt x="452" y="1227"/>
                  </a:lnTo>
                  <a:lnTo>
                    <a:pt x="430" y="1243"/>
                  </a:lnTo>
                  <a:lnTo>
                    <a:pt x="408" y="1250"/>
                  </a:lnTo>
                  <a:lnTo>
                    <a:pt x="386" y="1265"/>
                  </a:lnTo>
                  <a:lnTo>
                    <a:pt x="423" y="1265"/>
                  </a:lnTo>
                  <a:lnTo>
                    <a:pt x="445" y="1257"/>
                  </a:lnTo>
                  <a:lnTo>
                    <a:pt x="474" y="1257"/>
                  </a:lnTo>
                  <a:lnTo>
                    <a:pt x="496" y="1257"/>
                  </a:lnTo>
                  <a:lnTo>
                    <a:pt x="474" y="1265"/>
                  </a:lnTo>
                  <a:lnTo>
                    <a:pt x="452" y="1279"/>
                  </a:lnTo>
                  <a:lnTo>
                    <a:pt x="430" y="1287"/>
                  </a:lnTo>
                  <a:lnTo>
                    <a:pt x="408" y="1310"/>
                  </a:lnTo>
                  <a:lnTo>
                    <a:pt x="438" y="1310"/>
                  </a:lnTo>
                  <a:lnTo>
                    <a:pt x="467" y="1302"/>
                  </a:lnTo>
                  <a:lnTo>
                    <a:pt x="496" y="1302"/>
                  </a:lnTo>
                  <a:lnTo>
                    <a:pt x="518" y="1295"/>
                  </a:lnTo>
                  <a:lnTo>
                    <a:pt x="540" y="1287"/>
                  </a:lnTo>
                  <a:lnTo>
                    <a:pt x="577" y="1279"/>
                  </a:lnTo>
                  <a:lnTo>
                    <a:pt x="606" y="1265"/>
                  </a:lnTo>
                  <a:lnTo>
                    <a:pt x="635" y="1257"/>
                  </a:lnTo>
                  <a:lnTo>
                    <a:pt x="657" y="1250"/>
                  </a:lnTo>
                  <a:lnTo>
                    <a:pt x="679" y="1250"/>
                  </a:lnTo>
                  <a:lnTo>
                    <a:pt x="664" y="1272"/>
                  </a:lnTo>
                  <a:lnTo>
                    <a:pt x="650" y="1295"/>
                  </a:lnTo>
                  <a:lnTo>
                    <a:pt x="628" y="1317"/>
                  </a:lnTo>
                  <a:lnTo>
                    <a:pt x="606" y="1332"/>
                  </a:lnTo>
                  <a:lnTo>
                    <a:pt x="584" y="1355"/>
                  </a:lnTo>
                  <a:lnTo>
                    <a:pt x="562" y="1362"/>
                  </a:lnTo>
                  <a:lnTo>
                    <a:pt x="533" y="1369"/>
                  </a:lnTo>
                  <a:lnTo>
                    <a:pt x="511" y="1377"/>
                  </a:lnTo>
                  <a:lnTo>
                    <a:pt x="489" y="1384"/>
                  </a:lnTo>
                  <a:lnTo>
                    <a:pt x="467" y="1391"/>
                  </a:lnTo>
                  <a:lnTo>
                    <a:pt x="445" y="1399"/>
                  </a:lnTo>
                  <a:lnTo>
                    <a:pt x="423" y="1406"/>
                  </a:lnTo>
                  <a:lnTo>
                    <a:pt x="452" y="1421"/>
                  </a:lnTo>
                  <a:lnTo>
                    <a:pt x="474" y="1421"/>
                  </a:lnTo>
                  <a:lnTo>
                    <a:pt x="496" y="1414"/>
                  </a:lnTo>
                  <a:lnTo>
                    <a:pt x="525" y="1406"/>
                  </a:lnTo>
                  <a:lnTo>
                    <a:pt x="547" y="1399"/>
                  </a:lnTo>
                  <a:lnTo>
                    <a:pt x="569" y="1391"/>
                  </a:lnTo>
                  <a:lnTo>
                    <a:pt x="606" y="1377"/>
                  </a:lnTo>
                  <a:lnTo>
                    <a:pt x="628" y="1377"/>
                  </a:lnTo>
                  <a:lnTo>
                    <a:pt x="650" y="1369"/>
                  </a:lnTo>
                  <a:lnTo>
                    <a:pt x="620" y="1391"/>
                  </a:lnTo>
                  <a:lnTo>
                    <a:pt x="598" y="1399"/>
                  </a:lnTo>
                  <a:lnTo>
                    <a:pt x="584" y="1421"/>
                  </a:lnTo>
                  <a:lnTo>
                    <a:pt x="562" y="1436"/>
                  </a:lnTo>
                  <a:lnTo>
                    <a:pt x="533" y="1443"/>
                  </a:lnTo>
                  <a:lnTo>
                    <a:pt x="503" y="1443"/>
                  </a:lnTo>
                  <a:lnTo>
                    <a:pt x="481" y="1443"/>
                  </a:lnTo>
                  <a:lnTo>
                    <a:pt x="452" y="1451"/>
                  </a:lnTo>
                  <a:lnTo>
                    <a:pt x="430" y="1458"/>
                  </a:lnTo>
                  <a:lnTo>
                    <a:pt x="459" y="1465"/>
                  </a:lnTo>
                  <a:lnTo>
                    <a:pt x="496" y="1458"/>
                  </a:lnTo>
                  <a:lnTo>
                    <a:pt x="525" y="1458"/>
                  </a:lnTo>
                  <a:lnTo>
                    <a:pt x="547" y="1451"/>
                  </a:lnTo>
                  <a:lnTo>
                    <a:pt x="569" y="1451"/>
                  </a:lnTo>
                  <a:lnTo>
                    <a:pt x="555" y="1474"/>
                  </a:lnTo>
                  <a:lnTo>
                    <a:pt x="533" y="1496"/>
                  </a:lnTo>
                  <a:lnTo>
                    <a:pt x="511" y="1510"/>
                  </a:lnTo>
                  <a:lnTo>
                    <a:pt x="489" y="1525"/>
                  </a:lnTo>
                  <a:lnTo>
                    <a:pt x="459" y="1541"/>
                  </a:lnTo>
                  <a:lnTo>
                    <a:pt x="430" y="1541"/>
                  </a:lnTo>
                  <a:lnTo>
                    <a:pt x="408" y="1548"/>
                  </a:lnTo>
                  <a:lnTo>
                    <a:pt x="386" y="1555"/>
                  </a:lnTo>
                  <a:lnTo>
                    <a:pt x="408" y="1555"/>
                  </a:lnTo>
                  <a:lnTo>
                    <a:pt x="438" y="1555"/>
                  </a:lnTo>
                  <a:lnTo>
                    <a:pt x="467" y="1555"/>
                  </a:lnTo>
                  <a:lnTo>
                    <a:pt x="489" y="1548"/>
                  </a:lnTo>
                  <a:lnTo>
                    <a:pt x="518" y="1548"/>
                  </a:lnTo>
                  <a:lnTo>
                    <a:pt x="540" y="1541"/>
                  </a:lnTo>
                  <a:lnTo>
                    <a:pt x="569" y="1541"/>
                  </a:lnTo>
                  <a:lnTo>
                    <a:pt x="591" y="1533"/>
                  </a:lnTo>
                  <a:lnTo>
                    <a:pt x="613" y="1525"/>
                  </a:lnTo>
                  <a:lnTo>
                    <a:pt x="642" y="1518"/>
                  </a:lnTo>
                  <a:lnTo>
                    <a:pt x="664" y="1510"/>
                  </a:lnTo>
                  <a:lnTo>
                    <a:pt x="687" y="1503"/>
                  </a:lnTo>
                  <a:lnTo>
                    <a:pt x="664" y="1525"/>
                  </a:lnTo>
                  <a:lnTo>
                    <a:pt x="642" y="1548"/>
                  </a:lnTo>
                  <a:lnTo>
                    <a:pt x="620" y="1562"/>
                  </a:lnTo>
                  <a:lnTo>
                    <a:pt x="584" y="1584"/>
                  </a:lnTo>
                  <a:lnTo>
                    <a:pt x="562" y="1593"/>
                  </a:lnTo>
                  <a:lnTo>
                    <a:pt x="540" y="1607"/>
                  </a:lnTo>
                  <a:lnTo>
                    <a:pt x="518" y="1615"/>
                  </a:lnTo>
                  <a:lnTo>
                    <a:pt x="481" y="1629"/>
                  </a:lnTo>
                  <a:lnTo>
                    <a:pt x="459" y="1644"/>
                  </a:lnTo>
                  <a:lnTo>
                    <a:pt x="438" y="1652"/>
                  </a:lnTo>
                  <a:lnTo>
                    <a:pt x="416" y="1660"/>
                  </a:lnTo>
                  <a:lnTo>
                    <a:pt x="445" y="1667"/>
                  </a:lnTo>
                  <a:lnTo>
                    <a:pt x="467" y="1667"/>
                  </a:lnTo>
                  <a:lnTo>
                    <a:pt x="489" y="1660"/>
                  </a:lnTo>
                  <a:lnTo>
                    <a:pt x="511" y="1652"/>
                  </a:lnTo>
                  <a:lnTo>
                    <a:pt x="540" y="1644"/>
                  </a:lnTo>
                  <a:lnTo>
                    <a:pt x="562" y="1644"/>
                  </a:lnTo>
                  <a:lnTo>
                    <a:pt x="540" y="1660"/>
                  </a:lnTo>
                  <a:lnTo>
                    <a:pt x="518" y="1674"/>
                  </a:lnTo>
                  <a:lnTo>
                    <a:pt x="496" y="1682"/>
                  </a:lnTo>
                  <a:lnTo>
                    <a:pt x="474" y="1689"/>
                  </a:lnTo>
                  <a:lnTo>
                    <a:pt x="452" y="1696"/>
                  </a:lnTo>
                  <a:lnTo>
                    <a:pt x="430" y="1696"/>
                  </a:lnTo>
                  <a:lnTo>
                    <a:pt x="408" y="1704"/>
                  </a:lnTo>
                  <a:lnTo>
                    <a:pt x="386" y="1712"/>
                  </a:lnTo>
                  <a:lnTo>
                    <a:pt x="364" y="1719"/>
                  </a:lnTo>
                  <a:lnTo>
                    <a:pt x="341" y="1719"/>
                  </a:lnTo>
                  <a:lnTo>
                    <a:pt x="319" y="1719"/>
                  </a:lnTo>
                  <a:lnTo>
                    <a:pt x="298" y="1719"/>
                  </a:lnTo>
                  <a:lnTo>
                    <a:pt x="276" y="1712"/>
                  </a:lnTo>
                  <a:lnTo>
                    <a:pt x="254" y="1704"/>
                  </a:lnTo>
                  <a:lnTo>
                    <a:pt x="232" y="1704"/>
                  </a:lnTo>
                  <a:lnTo>
                    <a:pt x="210" y="1704"/>
                  </a:lnTo>
                  <a:lnTo>
                    <a:pt x="188" y="1712"/>
                  </a:lnTo>
                  <a:lnTo>
                    <a:pt x="166" y="1719"/>
                  </a:lnTo>
                  <a:lnTo>
                    <a:pt x="144" y="1726"/>
                  </a:lnTo>
                  <a:lnTo>
                    <a:pt x="122" y="1734"/>
                  </a:lnTo>
                  <a:lnTo>
                    <a:pt x="100" y="1741"/>
                  </a:lnTo>
                  <a:lnTo>
                    <a:pt x="78" y="1741"/>
                  </a:lnTo>
                  <a:lnTo>
                    <a:pt x="56" y="1748"/>
                  </a:lnTo>
                  <a:lnTo>
                    <a:pt x="34" y="1748"/>
                  </a:lnTo>
                  <a:lnTo>
                    <a:pt x="12" y="1756"/>
                  </a:lnTo>
                  <a:lnTo>
                    <a:pt x="0" y="1756"/>
                  </a:lnTo>
                  <a:lnTo>
                    <a:pt x="0" y="1764"/>
                  </a:lnTo>
                  <a:lnTo>
                    <a:pt x="0" y="1756"/>
                  </a:lnTo>
                  <a:lnTo>
                    <a:pt x="0" y="1748"/>
                  </a:lnTo>
                  <a:lnTo>
                    <a:pt x="0" y="2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66560" y="2994120"/>
              <a:ext cx="2271960" cy="3192480"/>
            </a:xfrm>
            <a:custGeom>
              <a:avLst/>
              <a:gdLst/>
              <a:ahLst/>
              <a:rect l="l" t="t" r="r" b="b"/>
              <a:pathLst>
                <a:path w="1431" h="2011">
                  <a:moveTo>
                    <a:pt x="278" y="1659"/>
                  </a:moveTo>
                  <a:lnTo>
                    <a:pt x="206" y="1696"/>
                  </a:lnTo>
                  <a:lnTo>
                    <a:pt x="53" y="1702"/>
                  </a:lnTo>
                  <a:lnTo>
                    <a:pt x="103" y="1635"/>
                  </a:lnTo>
                  <a:lnTo>
                    <a:pt x="159" y="1611"/>
                  </a:lnTo>
                  <a:lnTo>
                    <a:pt x="171" y="1562"/>
                  </a:lnTo>
                  <a:lnTo>
                    <a:pt x="227" y="1552"/>
                  </a:lnTo>
                  <a:lnTo>
                    <a:pt x="248" y="1517"/>
                  </a:lnTo>
                  <a:lnTo>
                    <a:pt x="270" y="1517"/>
                  </a:lnTo>
                  <a:lnTo>
                    <a:pt x="292" y="1510"/>
                  </a:lnTo>
                  <a:lnTo>
                    <a:pt x="314" y="1503"/>
                  </a:lnTo>
                  <a:lnTo>
                    <a:pt x="292" y="1495"/>
                  </a:lnTo>
                  <a:lnTo>
                    <a:pt x="270" y="1488"/>
                  </a:lnTo>
                  <a:lnTo>
                    <a:pt x="248" y="1472"/>
                  </a:lnTo>
                  <a:lnTo>
                    <a:pt x="227" y="1458"/>
                  </a:lnTo>
                  <a:lnTo>
                    <a:pt x="205" y="1443"/>
                  </a:lnTo>
                  <a:lnTo>
                    <a:pt x="153" y="1476"/>
                  </a:lnTo>
                  <a:lnTo>
                    <a:pt x="161" y="1436"/>
                  </a:lnTo>
                  <a:lnTo>
                    <a:pt x="139" y="1421"/>
                  </a:lnTo>
                  <a:lnTo>
                    <a:pt x="161" y="1421"/>
                  </a:lnTo>
                  <a:lnTo>
                    <a:pt x="183" y="1413"/>
                  </a:lnTo>
                  <a:lnTo>
                    <a:pt x="219" y="1413"/>
                  </a:lnTo>
                  <a:lnTo>
                    <a:pt x="241" y="1413"/>
                  </a:lnTo>
                  <a:lnTo>
                    <a:pt x="263" y="1421"/>
                  </a:lnTo>
                  <a:lnTo>
                    <a:pt x="326" y="1414"/>
                  </a:lnTo>
                  <a:lnTo>
                    <a:pt x="256" y="1398"/>
                  </a:lnTo>
                  <a:lnTo>
                    <a:pt x="234" y="1391"/>
                  </a:lnTo>
                  <a:lnTo>
                    <a:pt x="212" y="1384"/>
                  </a:lnTo>
                  <a:lnTo>
                    <a:pt x="190" y="1384"/>
                  </a:lnTo>
                  <a:lnTo>
                    <a:pt x="168" y="1369"/>
                  </a:lnTo>
                  <a:lnTo>
                    <a:pt x="146" y="1369"/>
                  </a:lnTo>
                  <a:lnTo>
                    <a:pt x="124" y="1362"/>
                  </a:lnTo>
                  <a:lnTo>
                    <a:pt x="109" y="1339"/>
                  </a:lnTo>
                  <a:lnTo>
                    <a:pt x="88" y="1339"/>
                  </a:lnTo>
                  <a:lnTo>
                    <a:pt x="80" y="1317"/>
                  </a:lnTo>
                  <a:lnTo>
                    <a:pt x="102" y="1331"/>
                  </a:lnTo>
                  <a:lnTo>
                    <a:pt x="124" y="1331"/>
                  </a:lnTo>
                  <a:lnTo>
                    <a:pt x="146" y="1339"/>
                  </a:lnTo>
                  <a:lnTo>
                    <a:pt x="212" y="1346"/>
                  </a:lnTo>
                  <a:lnTo>
                    <a:pt x="234" y="1346"/>
                  </a:lnTo>
                  <a:lnTo>
                    <a:pt x="373" y="1353"/>
                  </a:lnTo>
                  <a:lnTo>
                    <a:pt x="322" y="1324"/>
                  </a:lnTo>
                  <a:lnTo>
                    <a:pt x="344" y="1317"/>
                  </a:lnTo>
                  <a:lnTo>
                    <a:pt x="366" y="1306"/>
                  </a:lnTo>
                  <a:lnTo>
                    <a:pt x="344" y="1310"/>
                  </a:lnTo>
                  <a:lnTo>
                    <a:pt x="322" y="1310"/>
                  </a:lnTo>
                  <a:lnTo>
                    <a:pt x="300" y="1302"/>
                  </a:lnTo>
                  <a:lnTo>
                    <a:pt x="278" y="1302"/>
                  </a:lnTo>
                  <a:lnTo>
                    <a:pt x="256" y="1294"/>
                  </a:lnTo>
                  <a:lnTo>
                    <a:pt x="227" y="1294"/>
                  </a:lnTo>
                  <a:lnTo>
                    <a:pt x="117" y="1302"/>
                  </a:lnTo>
                  <a:lnTo>
                    <a:pt x="88" y="1302"/>
                  </a:lnTo>
                  <a:lnTo>
                    <a:pt x="66" y="1302"/>
                  </a:lnTo>
                  <a:lnTo>
                    <a:pt x="44" y="1294"/>
                  </a:lnTo>
                  <a:lnTo>
                    <a:pt x="22" y="1294"/>
                  </a:lnTo>
                  <a:lnTo>
                    <a:pt x="0" y="1302"/>
                  </a:lnTo>
                  <a:lnTo>
                    <a:pt x="22" y="1294"/>
                  </a:lnTo>
                  <a:lnTo>
                    <a:pt x="44" y="1294"/>
                  </a:lnTo>
                  <a:lnTo>
                    <a:pt x="80" y="1287"/>
                  </a:lnTo>
                  <a:lnTo>
                    <a:pt x="102" y="1279"/>
                  </a:lnTo>
                  <a:lnTo>
                    <a:pt x="131" y="1272"/>
                  </a:lnTo>
                  <a:lnTo>
                    <a:pt x="153" y="1265"/>
                  </a:lnTo>
                  <a:lnTo>
                    <a:pt x="175" y="1257"/>
                  </a:lnTo>
                  <a:lnTo>
                    <a:pt x="197" y="1250"/>
                  </a:lnTo>
                  <a:lnTo>
                    <a:pt x="376" y="1256"/>
                  </a:lnTo>
                  <a:lnTo>
                    <a:pt x="429" y="1228"/>
                  </a:lnTo>
                  <a:lnTo>
                    <a:pt x="309" y="1216"/>
                  </a:lnTo>
                  <a:lnTo>
                    <a:pt x="227" y="1205"/>
                  </a:lnTo>
                  <a:lnTo>
                    <a:pt x="205" y="1212"/>
                  </a:lnTo>
                  <a:lnTo>
                    <a:pt x="183" y="1220"/>
                  </a:lnTo>
                  <a:lnTo>
                    <a:pt x="161" y="1227"/>
                  </a:lnTo>
                  <a:lnTo>
                    <a:pt x="183" y="1205"/>
                  </a:lnTo>
                  <a:lnTo>
                    <a:pt x="205" y="1198"/>
                  </a:lnTo>
                  <a:lnTo>
                    <a:pt x="227" y="1190"/>
                  </a:lnTo>
                  <a:lnTo>
                    <a:pt x="248" y="1183"/>
                  </a:lnTo>
                  <a:lnTo>
                    <a:pt x="270" y="1175"/>
                  </a:lnTo>
                  <a:lnTo>
                    <a:pt x="292" y="1160"/>
                  </a:lnTo>
                  <a:lnTo>
                    <a:pt x="307" y="1138"/>
                  </a:lnTo>
                  <a:lnTo>
                    <a:pt x="399" y="1149"/>
                  </a:lnTo>
                  <a:lnTo>
                    <a:pt x="424" y="1138"/>
                  </a:lnTo>
                  <a:lnTo>
                    <a:pt x="462" y="1128"/>
                  </a:lnTo>
                  <a:lnTo>
                    <a:pt x="390" y="1131"/>
                  </a:lnTo>
                  <a:lnTo>
                    <a:pt x="450" y="1095"/>
                  </a:lnTo>
                  <a:lnTo>
                    <a:pt x="307" y="1131"/>
                  </a:lnTo>
                  <a:lnTo>
                    <a:pt x="278" y="1146"/>
                  </a:lnTo>
                  <a:lnTo>
                    <a:pt x="256" y="1160"/>
                  </a:lnTo>
                  <a:lnTo>
                    <a:pt x="234" y="1175"/>
                  </a:lnTo>
                  <a:lnTo>
                    <a:pt x="212" y="1183"/>
                  </a:lnTo>
                  <a:lnTo>
                    <a:pt x="190" y="1190"/>
                  </a:lnTo>
                  <a:lnTo>
                    <a:pt x="168" y="1190"/>
                  </a:lnTo>
                  <a:lnTo>
                    <a:pt x="139" y="1198"/>
                  </a:lnTo>
                  <a:lnTo>
                    <a:pt x="109" y="1198"/>
                  </a:lnTo>
                  <a:lnTo>
                    <a:pt x="88" y="1198"/>
                  </a:lnTo>
                  <a:lnTo>
                    <a:pt x="109" y="1183"/>
                  </a:lnTo>
                  <a:lnTo>
                    <a:pt x="139" y="1175"/>
                  </a:lnTo>
                  <a:lnTo>
                    <a:pt x="161" y="1160"/>
                  </a:lnTo>
                  <a:lnTo>
                    <a:pt x="183" y="1146"/>
                  </a:lnTo>
                  <a:lnTo>
                    <a:pt x="205" y="1138"/>
                  </a:lnTo>
                  <a:lnTo>
                    <a:pt x="227" y="1131"/>
                  </a:lnTo>
                  <a:lnTo>
                    <a:pt x="248" y="1115"/>
                  </a:lnTo>
                  <a:lnTo>
                    <a:pt x="270" y="1108"/>
                  </a:lnTo>
                  <a:lnTo>
                    <a:pt x="312" y="1091"/>
                  </a:lnTo>
                  <a:lnTo>
                    <a:pt x="332" y="1070"/>
                  </a:lnTo>
                  <a:lnTo>
                    <a:pt x="263" y="1048"/>
                  </a:lnTo>
                  <a:lnTo>
                    <a:pt x="241" y="1056"/>
                  </a:lnTo>
                  <a:lnTo>
                    <a:pt x="219" y="1056"/>
                  </a:lnTo>
                  <a:lnTo>
                    <a:pt x="190" y="1063"/>
                  </a:lnTo>
                  <a:lnTo>
                    <a:pt x="168" y="1063"/>
                  </a:lnTo>
                  <a:lnTo>
                    <a:pt x="146" y="1071"/>
                  </a:lnTo>
                  <a:lnTo>
                    <a:pt x="124" y="1071"/>
                  </a:lnTo>
                  <a:lnTo>
                    <a:pt x="175" y="1048"/>
                  </a:lnTo>
                  <a:lnTo>
                    <a:pt x="113" y="987"/>
                  </a:lnTo>
                  <a:lnTo>
                    <a:pt x="205" y="1041"/>
                  </a:lnTo>
                  <a:lnTo>
                    <a:pt x="168" y="993"/>
                  </a:lnTo>
                  <a:lnTo>
                    <a:pt x="256" y="1012"/>
                  </a:lnTo>
                  <a:lnTo>
                    <a:pt x="278" y="1003"/>
                  </a:lnTo>
                  <a:lnTo>
                    <a:pt x="335" y="1025"/>
                  </a:lnTo>
                  <a:lnTo>
                    <a:pt x="361" y="994"/>
                  </a:lnTo>
                  <a:lnTo>
                    <a:pt x="391" y="1010"/>
                  </a:lnTo>
                  <a:lnTo>
                    <a:pt x="472" y="993"/>
                  </a:lnTo>
                  <a:lnTo>
                    <a:pt x="321" y="969"/>
                  </a:lnTo>
                  <a:lnTo>
                    <a:pt x="417" y="942"/>
                  </a:lnTo>
                  <a:lnTo>
                    <a:pt x="307" y="960"/>
                  </a:lnTo>
                  <a:lnTo>
                    <a:pt x="285" y="974"/>
                  </a:lnTo>
                  <a:lnTo>
                    <a:pt x="263" y="982"/>
                  </a:lnTo>
                  <a:lnTo>
                    <a:pt x="241" y="989"/>
                  </a:lnTo>
                  <a:lnTo>
                    <a:pt x="256" y="967"/>
                  </a:lnTo>
                  <a:lnTo>
                    <a:pt x="278" y="960"/>
                  </a:lnTo>
                  <a:lnTo>
                    <a:pt x="307" y="944"/>
                  </a:lnTo>
                  <a:lnTo>
                    <a:pt x="329" y="922"/>
                  </a:lnTo>
                  <a:lnTo>
                    <a:pt x="453" y="909"/>
                  </a:lnTo>
                  <a:lnTo>
                    <a:pt x="474" y="891"/>
                  </a:lnTo>
                  <a:lnTo>
                    <a:pt x="457" y="866"/>
                  </a:lnTo>
                  <a:lnTo>
                    <a:pt x="367" y="877"/>
                  </a:lnTo>
                  <a:lnTo>
                    <a:pt x="356" y="867"/>
                  </a:lnTo>
                  <a:lnTo>
                    <a:pt x="329" y="862"/>
                  </a:lnTo>
                  <a:lnTo>
                    <a:pt x="300" y="877"/>
                  </a:lnTo>
                  <a:lnTo>
                    <a:pt x="278" y="884"/>
                  </a:lnTo>
                  <a:lnTo>
                    <a:pt x="256" y="884"/>
                  </a:lnTo>
                  <a:lnTo>
                    <a:pt x="234" y="893"/>
                  </a:lnTo>
                  <a:lnTo>
                    <a:pt x="243" y="854"/>
                  </a:lnTo>
                  <a:lnTo>
                    <a:pt x="212" y="893"/>
                  </a:lnTo>
                  <a:lnTo>
                    <a:pt x="190" y="893"/>
                  </a:lnTo>
                  <a:lnTo>
                    <a:pt x="129" y="899"/>
                  </a:lnTo>
                  <a:lnTo>
                    <a:pt x="171" y="866"/>
                  </a:lnTo>
                  <a:lnTo>
                    <a:pt x="213" y="845"/>
                  </a:lnTo>
                  <a:lnTo>
                    <a:pt x="266" y="815"/>
                  </a:lnTo>
                  <a:lnTo>
                    <a:pt x="270" y="848"/>
                  </a:lnTo>
                  <a:lnTo>
                    <a:pt x="294" y="824"/>
                  </a:lnTo>
                  <a:lnTo>
                    <a:pt x="300" y="840"/>
                  </a:lnTo>
                  <a:lnTo>
                    <a:pt x="322" y="833"/>
                  </a:lnTo>
                  <a:lnTo>
                    <a:pt x="320" y="814"/>
                  </a:lnTo>
                  <a:lnTo>
                    <a:pt x="344" y="825"/>
                  </a:lnTo>
                  <a:lnTo>
                    <a:pt x="367" y="818"/>
                  </a:lnTo>
                  <a:lnTo>
                    <a:pt x="388" y="810"/>
                  </a:lnTo>
                  <a:lnTo>
                    <a:pt x="430" y="810"/>
                  </a:lnTo>
                  <a:lnTo>
                    <a:pt x="495" y="784"/>
                  </a:lnTo>
                  <a:lnTo>
                    <a:pt x="438" y="769"/>
                  </a:lnTo>
                  <a:lnTo>
                    <a:pt x="427" y="756"/>
                  </a:lnTo>
                  <a:lnTo>
                    <a:pt x="454" y="732"/>
                  </a:lnTo>
                  <a:lnTo>
                    <a:pt x="513" y="698"/>
                  </a:lnTo>
                  <a:lnTo>
                    <a:pt x="520" y="676"/>
                  </a:lnTo>
                  <a:lnTo>
                    <a:pt x="498" y="684"/>
                  </a:lnTo>
                  <a:lnTo>
                    <a:pt x="476" y="698"/>
                  </a:lnTo>
                  <a:lnTo>
                    <a:pt x="454" y="714"/>
                  </a:lnTo>
                  <a:lnTo>
                    <a:pt x="432" y="721"/>
                  </a:lnTo>
                  <a:lnTo>
                    <a:pt x="285" y="765"/>
                  </a:lnTo>
                  <a:lnTo>
                    <a:pt x="299" y="747"/>
                  </a:lnTo>
                  <a:lnTo>
                    <a:pt x="302" y="732"/>
                  </a:lnTo>
                  <a:lnTo>
                    <a:pt x="314" y="729"/>
                  </a:lnTo>
                  <a:lnTo>
                    <a:pt x="374" y="691"/>
                  </a:lnTo>
                  <a:lnTo>
                    <a:pt x="396" y="684"/>
                  </a:lnTo>
                  <a:lnTo>
                    <a:pt x="418" y="669"/>
                  </a:lnTo>
                  <a:lnTo>
                    <a:pt x="432" y="632"/>
                  </a:lnTo>
                  <a:lnTo>
                    <a:pt x="311" y="558"/>
                  </a:lnTo>
                  <a:lnTo>
                    <a:pt x="543" y="613"/>
                  </a:lnTo>
                  <a:lnTo>
                    <a:pt x="576" y="607"/>
                  </a:lnTo>
                  <a:lnTo>
                    <a:pt x="594" y="549"/>
                  </a:lnTo>
                  <a:lnTo>
                    <a:pt x="561" y="500"/>
                  </a:lnTo>
                  <a:lnTo>
                    <a:pt x="504" y="491"/>
                  </a:lnTo>
                  <a:lnTo>
                    <a:pt x="492" y="479"/>
                  </a:lnTo>
                  <a:lnTo>
                    <a:pt x="462" y="488"/>
                  </a:lnTo>
                  <a:lnTo>
                    <a:pt x="423" y="497"/>
                  </a:lnTo>
                  <a:lnTo>
                    <a:pt x="356" y="427"/>
                  </a:lnTo>
                  <a:lnTo>
                    <a:pt x="440" y="446"/>
                  </a:lnTo>
                  <a:lnTo>
                    <a:pt x="558" y="463"/>
                  </a:lnTo>
                  <a:lnTo>
                    <a:pt x="561" y="433"/>
                  </a:lnTo>
                  <a:lnTo>
                    <a:pt x="469" y="379"/>
                  </a:lnTo>
                  <a:lnTo>
                    <a:pt x="447" y="393"/>
                  </a:lnTo>
                  <a:lnTo>
                    <a:pt x="447" y="387"/>
                  </a:lnTo>
                  <a:lnTo>
                    <a:pt x="420" y="378"/>
                  </a:lnTo>
                  <a:lnTo>
                    <a:pt x="417" y="311"/>
                  </a:lnTo>
                  <a:lnTo>
                    <a:pt x="440" y="348"/>
                  </a:lnTo>
                  <a:lnTo>
                    <a:pt x="462" y="341"/>
                  </a:lnTo>
                  <a:lnTo>
                    <a:pt x="558" y="369"/>
                  </a:lnTo>
                  <a:lnTo>
                    <a:pt x="621" y="393"/>
                  </a:lnTo>
                  <a:lnTo>
                    <a:pt x="615" y="366"/>
                  </a:lnTo>
                  <a:lnTo>
                    <a:pt x="618" y="320"/>
                  </a:lnTo>
                  <a:lnTo>
                    <a:pt x="513" y="238"/>
                  </a:lnTo>
                  <a:lnTo>
                    <a:pt x="535" y="245"/>
                  </a:lnTo>
                  <a:lnTo>
                    <a:pt x="557" y="245"/>
                  </a:lnTo>
                  <a:lnTo>
                    <a:pt x="600" y="274"/>
                  </a:lnTo>
                  <a:lnTo>
                    <a:pt x="615" y="200"/>
                  </a:lnTo>
                  <a:lnTo>
                    <a:pt x="623" y="178"/>
                  </a:lnTo>
                  <a:lnTo>
                    <a:pt x="623" y="155"/>
                  </a:lnTo>
                  <a:lnTo>
                    <a:pt x="615" y="133"/>
                  </a:lnTo>
                  <a:lnTo>
                    <a:pt x="615" y="110"/>
                  </a:lnTo>
                  <a:lnTo>
                    <a:pt x="623" y="88"/>
                  </a:lnTo>
                  <a:lnTo>
                    <a:pt x="623" y="66"/>
                  </a:lnTo>
                  <a:lnTo>
                    <a:pt x="623" y="43"/>
                  </a:lnTo>
                  <a:lnTo>
                    <a:pt x="623" y="22"/>
                  </a:lnTo>
                  <a:lnTo>
                    <a:pt x="623" y="0"/>
                  </a:lnTo>
                  <a:lnTo>
                    <a:pt x="645" y="14"/>
                  </a:lnTo>
                  <a:lnTo>
                    <a:pt x="645" y="36"/>
                  </a:lnTo>
                  <a:lnTo>
                    <a:pt x="652" y="58"/>
                  </a:lnTo>
                  <a:lnTo>
                    <a:pt x="652" y="81"/>
                  </a:lnTo>
                  <a:lnTo>
                    <a:pt x="652" y="103"/>
                  </a:lnTo>
                  <a:lnTo>
                    <a:pt x="659" y="126"/>
                  </a:lnTo>
                  <a:lnTo>
                    <a:pt x="666" y="148"/>
                  </a:lnTo>
                  <a:lnTo>
                    <a:pt x="666" y="170"/>
                  </a:lnTo>
                  <a:lnTo>
                    <a:pt x="666" y="193"/>
                  </a:lnTo>
                  <a:lnTo>
                    <a:pt x="659" y="215"/>
                  </a:lnTo>
                  <a:lnTo>
                    <a:pt x="681" y="215"/>
                  </a:lnTo>
                  <a:lnTo>
                    <a:pt x="696" y="193"/>
                  </a:lnTo>
                  <a:lnTo>
                    <a:pt x="710" y="170"/>
                  </a:lnTo>
                  <a:lnTo>
                    <a:pt x="733" y="155"/>
                  </a:lnTo>
                  <a:lnTo>
                    <a:pt x="755" y="148"/>
                  </a:lnTo>
                  <a:lnTo>
                    <a:pt x="741" y="170"/>
                  </a:lnTo>
                  <a:lnTo>
                    <a:pt x="726" y="200"/>
                  </a:lnTo>
                  <a:lnTo>
                    <a:pt x="710" y="222"/>
                  </a:lnTo>
                  <a:lnTo>
                    <a:pt x="696" y="245"/>
                  </a:lnTo>
                  <a:lnTo>
                    <a:pt x="719" y="245"/>
                  </a:lnTo>
                  <a:lnTo>
                    <a:pt x="741" y="238"/>
                  </a:lnTo>
                  <a:lnTo>
                    <a:pt x="763" y="229"/>
                  </a:lnTo>
                  <a:lnTo>
                    <a:pt x="785" y="222"/>
                  </a:lnTo>
                  <a:lnTo>
                    <a:pt x="806" y="215"/>
                  </a:lnTo>
                  <a:lnTo>
                    <a:pt x="828" y="207"/>
                  </a:lnTo>
                  <a:lnTo>
                    <a:pt x="814" y="238"/>
                  </a:lnTo>
                  <a:lnTo>
                    <a:pt x="792" y="260"/>
                  </a:lnTo>
                  <a:lnTo>
                    <a:pt x="777" y="282"/>
                  </a:lnTo>
                  <a:lnTo>
                    <a:pt x="755" y="297"/>
                  </a:lnTo>
                  <a:lnTo>
                    <a:pt x="733" y="312"/>
                  </a:lnTo>
                  <a:lnTo>
                    <a:pt x="733" y="334"/>
                  </a:lnTo>
                  <a:lnTo>
                    <a:pt x="755" y="334"/>
                  </a:lnTo>
                  <a:lnTo>
                    <a:pt x="777" y="334"/>
                  </a:lnTo>
                  <a:lnTo>
                    <a:pt x="799" y="327"/>
                  </a:lnTo>
                  <a:lnTo>
                    <a:pt x="792" y="357"/>
                  </a:lnTo>
                  <a:lnTo>
                    <a:pt x="770" y="364"/>
                  </a:lnTo>
                  <a:lnTo>
                    <a:pt x="748" y="379"/>
                  </a:lnTo>
                  <a:lnTo>
                    <a:pt x="726" y="393"/>
                  </a:lnTo>
                  <a:lnTo>
                    <a:pt x="703" y="401"/>
                  </a:lnTo>
                  <a:lnTo>
                    <a:pt x="733" y="408"/>
                  </a:lnTo>
                  <a:lnTo>
                    <a:pt x="755" y="401"/>
                  </a:lnTo>
                  <a:lnTo>
                    <a:pt x="792" y="401"/>
                  </a:lnTo>
                  <a:lnTo>
                    <a:pt x="814" y="393"/>
                  </a:lnTo>
                  <a:lnTo>
                    <a:pt x="850" y="386"/>
                  </a:lnTo>
                  <a:lnTo>
                    <a:pt x="872" y="386"/>
                  </a:lnTo>
                  <a:lnTo>
                    <a:pt x="902" y="379"/>
                  </a:lnTo>
                  <a:lnTo>
                    <a:pt x="924" y="371"/>
                  </a:lnTo>
                  <a:lnTo>
                    <a:pt x="945" y="364"/>
                  </a:lnTo>
                  <a:lnTo>
                    <a:pt x="967" y="364"/>
                  </a:lnTo>
                  <a:lnTo>
                    <a:pt x="945" y="379"/>
                  </a:lnTo>
                  <a:lnTo>
                    <a:pt x="916" y="393"/>
                  </a:lnTo>
                  <a:lnTo>
                    <a:pt x="894" y="408"/>
                  </a:lnTo>
                  <a:lnTo>
                    <a:pt x="872" y="424"/>
                  </a:lnTo>
                  <a:lnTo>
                    <a:pt x="843" y="424"/>
                  </a:lnTo>
                  <a:lnTo>
                    <a:pt x="814" y="438"/>
                  </a:lnTo>
                  <a:lnTo>
                    <a:pt x="792" y="446"/>
                  </a:lnTo>
                  <a:lnTo>
                    <a:pt x="770" y="460"/>
                  </a:lnTo>
                  <a:lnTo>
                    <a:pt x="741" y="460"/>
                  </a:lnTo>
                  <a:lnTo>
                    <a:pt x="719" y="468"/>
                  </a:lnTo>
                  <a:lnTo>
                    <a:pt x="741" y="468"/>
                  </a:lnTo>
                  <a:lnTo>
                    <a:pt x="763" y="468"/>
                  </a:lnTo>
                  <a:lnTo>
                    <a:pt x="785" y="468"/>
                  </a:lnTo>
                  <a:lnTo>
                    <a:pt x="814" y="460"/>
                  </a:lnTo>
                  <a:lnTo>
                    <a:pt x="843" y="460"/>
                  </a:lnTo>
                  <a:lnTo>
                    <a:pt x="865" y="453"/>
                  </a:lnTo>
                  <a:lnTo>
                    <a:pt x="894" y="446"/>
                  </a:lnTo>
                  <a:lnTo>
                    <a:pt x="880" y="468"/>
                  </a:lnTo>
                  <a:lnTo>
                    <a:pt x="858" y="476"/>
                  </a:lnTo>
                  <a:lnTo>
                    <a:pt x="836" y="498"/>
                  </a:lnTo>
                  <a:lnTo>
                    <a:pt x="814" y="512"/>
                  </a:lnTo>
                  <a:lnTo>
                    <a:pt x="792" y="527"/>
                  </a:lnTo>
                  <a:lnTo>
                    <a:pt x="770" y="535"/>
                  </a:lnTo>
                  <a:lnTo>
                    <a:pt x="748" y="550"/>
                  </a:lnTo>
                  <a:lnTo>
                    <a:pt x="770" y="565"/>
                  </a:lnTo>
                  <a:lnTo>
                    <a:pt x="792" y="565"/>
                  </a:lnTo>
                  <a:lnTo>
                    <a:pt x="821" y="557"/>
                  </a:lnTo>
                  <a:lnTo>
                    <a:pt x="843" y="557"/>
                  </a:lnTo>
                  <a:lnTo>
                    <a:pt x="872" y="550"/>
                  </a:lnTo>
                  <a:lnTo>
                    <a:pt x="894" y="550"/>
                  </a:lnTo>
                  <a:lnTo>
                    <a:pt x="916" y="550"/>
                  </a:lnTo>
                  <a:lnTo>
                    <a:pt x="938" y="543"/>
                  </a:lnTo>
                  <a:lnTo>
                    <a:pt x="960" y="543"/>
                  </a:lnTo>
                  <a:lnTo>
                    <a:pt x="982" y="543"/>
                  </a:lnTo>
                  <a:lnTo>
                    <a:pt x="1004" y="535"/>
                  </a:lnTo>
                  <a:lnTo>
                    <a:pt x="1026" y="535"/>
                  </a:lnTo>
                  <a:lnTo>
                    <a:pt x="1048" y="535"/>
                  </a:lnTo>
                  <a:lnTo>
                    <a:pt x="1026" y="550"/>
                  </a:lnTo>
                  <a:lnTo>
                    <a:pt x="1019" y="572"/>
                  </a:lnTo>
                  <a:lnTo>
                    <a:pt x="997" y="587"/>
                  </a:lnTo>
                  <a:lnTo>
                    <a:pt x="967" y="595"/>
                  </a:lnTo>
                  <a:lnTo>
                    <a:pt x="945" y="602"/>
                  </a:lnTo>
                  <a:lnTo>
                    <a:pt x="924" y="617"/>
                  </a:lnTo>
                  <a:lnTo>
                    <a:pt x="902" y="624"/>
                  </a:lnTo>
                  <a:lnTo>
                    <a:pt x="880" y="624"/>
                  </a:lnTo>
                  <a:lnTo>
                    <a:pt x="850" y="624"/>
                  </a:lnTo>
                  <a:lnTo>
                    <a:pt x="828" y="624"/>
                  </a:lnTo>
                  <a:lnTo>
                    <a:pt x="806" y="632"/>
                  </a:lnTo>
                  <a:lnTo>
                    <a:pt x="785" y="639"/>
                  </a:lnTo>
                  <a:lnTo>
                    <a:pt x="806" y="646"/>
                  </a:lnTo>
                  <a:lnTo>
                    <a:pt x="828" y="655"/>
                  </a:lnTo>
                  <a:lnTo>
                    <a:pt x="858" y="662"/>
                  </a:lnTo>
                  <a:lnTo>
                    <a:pt x="821" y="675"/>
                  </a:lnTo>
                  <a:lnTo>
                    <a:pt x="880" y="669"/>
                  </a:lnTo>
                  <a:lnTo>
                    <a:pt x="909" y="669"/>
                  </a:lnTo>
                  <a:lnTo>
                    <a:pt x="866" y="681"/>
                  </a:lnTo>
                  <a:lnTo>
                    <a:pt x="938" y="669"/>
                  </a:lnTo>
                  <a:lnTo>
                    <a:pt x="967" y="669"/>
                  </a:lnTo>
                  <a:lnTo>
                    <a:pt x="997" y="662"/>
                  </a:lnTo>
                  <a:lnTo>
                    <a:pt x="1019" y="662"/>
                  </a:lnTo>
                  <a:lnTo>
                    <a:pt x="1041" y="662"/>
                  </a:lnTo>
                  <a:lnTo>
                    <a:pt x="1011" y="684"/>
                  </a:lnTo>
                  <a:lnTo>
                    <a:pt x="989" y="706"/>
                  </a:lnTo>
                  <a:lnTo>
                    <a:pt x="967" y="714"/>
                  </a:lnTo>
                  <a:lnTo>
                    <a:pt x="945" y="714"/>
                  </a:lnTo>
                  <a:lnTo>
                    <a:pt x="909" y="721"/>
                  </a:lnTo>
                  <a:lnTo>
                    <a:pt x="887" y="729"/>
                  </a:lnTo>
                  <a:lnTo>
                    <a:pt x="865" y="729"/>
                  </a:lnTo>
                  <a:lnTo>
                    <a:pt x="843" y="743"/>
                  </a:lnTo>
                  <a:lnTo>
                    <a:pt x="872" y="743"/>
                  </a:lnTo>
                  <a:lnTo>
                    <a:pt x="894" y="736"/>
                  </a:lnTo>
                  <a:lnTo>
                    <a:pt x="916" y="736"/>
                  </a:lnTo>
                  <a:lnTo>
                    <a:pt x="945" y="736"/>
                  </a:lnTo>
                  <a:lnTo>
                    <a:pt x="931" y="758"/>
                  </a:lnTo>
                  <a:lnTo>
                    <a:pt x="878" y="772"/>
                  </a:lnTo>
                  <a:lnTo>
                    <a:pt x="887" y="781"/>
                  </a:lnTo>
                  <a:lnTo>
                    <a:pt x="865" y="788"/>
                  </a:lnTo>
                  <a:lnTo>
                    <a:pt x="796" y="784"/>
                  </a:lnTo>
                  <a:lnTo>
                    <a:pt x="843" y="796"/>
                  </a:lnTo>
                  <a:lnTo>
                    <a:pt x="821" y="803"/>
                  </a:lnTo>
                  <a:lnTo>
                    <a:pt x="799" y="810"/>
                  </a:lnTo>
                  <a:lnTo>
                    <a:pt x="821" y="818"/>
                  </a:lnTo>
                  <a:lnTo>
                    <a:pt x="843" y="818"/>
                  </a:lnTo>
                  <a:lnTo>
                    <a:pt x="917" y="811"/>
                  </a:lnTo>
                  <a:lnTo>
                    <a:pt x="901" y="831"/>
                  </a:lnTo>
                  <a:lnTo>
                    <a:pt x="850" y="848"/>
                  </a:lnTo>
                  <a:lnTo>
                    <a:pt x="914" y="866"/>
                  </a:lnTo>
                  <a:lnTo>
                    <a:pt x="749" y="848"/>
                  </a:lnTo>
                  <a:lnTo>
                    <a:pt x="777" y="884"/>
                  </a:lnTo>
                  <a:lnTo>
                    <a:pt x="865" y="925"/>
                  </a:lnTo>
                  <a:lnTo>
                    <a:pt x="793" y="937"/>
                  </a:lnTo>
                  <a:lnTo>
                    <a:pt x="741" y="952"/>
                  </a:lnTo>
                  <a:lnTo>
                    <a:pt x="763" y="944"/>
                  </a:lnTo>
                  <a:lnTo>
                    <a:pt x="814" y="944"/>
                  </a:lnTo>
                  <a:lnTo>
                    <a:pt x="836" y="944"/>
                  </a:lnTo>
                  <a:lnTo>
                    <a:pt x="902" y="953"/>
                  </a:lnTo>
                  <a:lnTo>
                    <a:pt x="950" y="952"/>
                  </a:lnTo>
                  <a:lnTo>
                    <a:pt x="1016" y="904"/>
                  </a:lnTo>
                  <a:lnTo>
                    <a:pt x="995" y="936"/>
                  </a:lnTo>
                  <a:lnTo>
                    <a:pt x="1076" y="894"/>
                  </a:lnTo>
                  <a:lnTo>
                    <a:pt x="1036" y="933"/>
                  </a:lnTo>
                  <a:lnTo>
                    <a:pt x="1115" y="915"/>
                  </a:lnTo>
                  <a:lnTo>
                    <a:pt x="1137" y="907"/>
                  </a:lnTo>
                  <a:lnTo>
                    <a:pt x="1159" y="900"/>
                  </a:lnTo>
                  <a:lnTo>
                    <a:pt x="1137" y="915"/>
                  </a:lnTo>
                  <a:lnTo>
                    <a:pt x="1082" y="946"/>
                  </a:lnTo>
                  <a:lnTo>
                    <a:pt x="1109" y="956"/>
                  </a:lnTo>
                  <a:lnTo>
                    <a:pt x="1048" y="960"/>
                  </a:lnTo>
                  <a:lnTo>
                    <a:pt x="1007" y="970"/>
                  </a:lnTo>
                  <a:lnTo>
                    <a:pt x="1058" y="995"/>
                  </a:lnTo>
                  <a:lnTo>
                    <a:pt x="975" y="982"/>
                  </a:lnTo>
                  <a:lnTo>
                    <a:pt x="945" y="989"/>
                  </a:lnTo>
                  <a:lnTo>
                    <a:pt x="956" y="1001"/>
                  </a:lnTo>
                  <a:lnTo>
                    <a:pt x="950" y="1008"/>
                  </a:lnTo>
                  <a:lnTo>
                    <a:pt x="894" y="1003"/>
                  </a:lnTo>
                  <a:lnTo>
                    <a:pt x="836" y="1012"/>
                  </a:lnTo>
                  <a:lnTo>
                    <a:pt x="792" y="1019"/>
                  </a:lnTo>
                  <a:lnTo>
                    <a:pt x="828" y="1026"/>
                  </a:lnTo>
                  <a:lnTo>
                    <a:pt x="850" y="1026"/>
                  </a:lnTo>
                  <a:lnTo>
                    <a:pt x="880" y="1034"/>
                  </a:lnTo>
                  <a:lnTo>
                    <a:pt x="902" y="1034"/>
                  </a:lnTo>
                  <a:lnTo>
                    <a:pt x="945" y="1034"/>
                  </a:lnTo>
                  <a:lnTo>
                    <a:pt x="975" y="1026"/>
                  </a:lnTo>
                  <a:lnTo>
                    <a:pt x="1011" y="1026"/>
                  </a:lnTo>
                  <a:lnTo>
                    <a:pt x="1041" y="1026"/>
                  </a:lnTo>
                  <a:lnTo>
                    <a:pt x="1063" y="1026"/>
                  </a:lnTo>
                  <a:lnTo>
                    <a:pt x="1085" y="1026"/>
                  </a:lnTo>
                  <a:lnTo>
                    <a:pt x="1107" y="1026"/>
                  </a:lnTo>
                  <a:lnTo>
                    <a:pt x="1085" y="1041"/>
                  </a:lnTo>
                  <a:lnTo>
                    <a:pt x="1063" y="1056"/>
                  </a:lnTo>
                  <a:lnTo>
                    <a:pt x="1033" y="1063"/>
                  </a:lnTo>
                  <a:lnTo>
                    <a:pt x="1011" y="1071"/>
                  </a:lnTo>
                  <a:lnTo>
                    <a:pt x="975" y="1086"/>
                  </a:lnTo>
                  <a:lnTo>
                    <a:pt x="945" y="1093"/>
                  </a:lnTo>
                  <a:lnTo>
                    <a:pt x="924" y="1101"/>
                  </a:lnTo>
                  <a:lnTo>
                    <a:pt x="902" y="1101"/>
                  </a:lnTo>
                  <a:lnTo>
                    <a:pt x="872" y="1101"/>
                  </a:lnTo>
                  <a:lnTo>
                    <a:pt x="850" y="1108"/>
                  </a:lnTo>
                  <a:lnTo>
                    <a:pt x="821" y="1108"/>
                  </a:lnTo>
                  <a:lnTo>
                    <a:pt x="799" y="1108"/>
                  </a:lnTo>
                  <a:lnTo>
                    <a:pt x="821" y="1124"/>
                  </a:lnTo>
                  <a:lnTo>
                    <a:pt x="872" y="1131"/>
                  </a:lnTo>
                  <a:lnTo>
                    <a:pt x="916" y="1131"/>
                  </a:lnTo>
                  <a:lnTo>
                    <a:pt x="938" y="1138"/>
                  </a:lnTo>
                  <a:lnTo>
                    <a:pt x="975" y="1138"/>
                  </a:lnTo>
                  <a:lnTo>
                    <a:pt x="971" y="1150"/>
                  </a:lnTo>
                  <a:lnTo>
                    <a:pt x="1019" y="1138"/>
                  </a:lnTo>
                  <a:lnTo>
                    <a:pt x="1027" y="1153"/>
                  </a:lnTo>
                  <a:lnTo>
                    <a:pt x="1078" y="1138"/>
                  </a:lnTo>
                  <a:lnTo>
                    <a:pt x="1100" y="1138"/>
                  </a:lnTo>
                  <a:lnTo>
                    <a:pt x="1085" y="1152"/>
                  </a:lnTo>
                  <a:lnTo>
                    <a:pt x="1122" y="1138"/>
                  </a:lnTo>
                  <a:lnTo>
                    <a:pt x="1154" y="1129"/>
                  </a:lnTo>
                  <a:lnTo>
                    <a:pt x="1122" y="1167"/>
                  </a:lnTo>
                  <a:lnTo>
                    <a:pt x="1089" y="1170"/>
                  </a:lnTo>
                  <a:lnTo>
                    <a:pt x="1052" y="1179"/>
                  </a:lnTo>
                  <a:lnTo>
                    <a:pt x="1048" y="1212"/>
                  </a:lnTo>
                  <a:lnTo>
                    <a:pt x="1021" y="1196"/>
                  </a:lnTo>
                  <a:lnTo>
                    <a:pt x="992" y="1205"/>
                  </a:lnTo>
                  <a:lnTo>
                    <a:pt x="975" y="1234"/>
                  </a:lnTo>
                  <a:lnTo>
                    <a:pt x="958" y="1193"/>
                  </a:lnTo>
                  <a:lnTo>
                    <a:pt x="887" y="1243"/>
                  </a:lnTo>
                  <a:lnTo>
                    <a:pt x="865" y="1234"/>
                  </a:lnTo>
                  <a:lnTo>
                    <a:pt x="830" y="1201"/>
                  </a:lnTo>
                  <a:lnTo>
                    <a:pt x="836" y="1220"/>
                  </a:lnTo>
                  <a:lnTo>
                    <a:pt x="814" y="1212"/>
                  </a:lnTo>
                  <a:lnTo>
                    <a:pt x="792" y="1205"/>
                  </a:lnTo>
                  <a:lnTo>
                    <a:pt x="770" y="1198"/>
                  </a:lnTo>
                  <a:lnTo>
                    <a:pt x="748" y="1198"/>
                  </a:lnTo>
                  <a:lnTo>
                    <a:pt x="770" y="1212"/>
                  </a:lnTo>
                  <a:lnTo>
                    <a:pt x="792" y="1220"/>
                  </a:lnTo>
                  <a:lnTo>
                    <a:pt x="836" y="1227"/>
                  </a:lnTo>
                  <a:lnTo>
                    <a:pt x="865" y="1234"/>
                  </a:lnTo>
                  <a:lnTo>
                    <a:pt x="953" y="1250"/>
                  </a:lnTo>
                  <a:lnTo>
                    <a:pt x="949" y="1273"/>
                  </a:lnTo>
                  <a:lnTo>
                    <a:pt x="1053" y="1261"/>
                  </a:lnTo>
                  <a:lnTo>
                    <a:pt x="976" y="1283"/>
                  </a:lnTo>
                  <a:lnTo>
                    <a:pt x="1043" y="1295"/>
                  </a:lnTo>
                  <a:lnTo>
                    <a:pt x="1136" y="1273"/>
                  </a:lnTo>
                  <a:lnTo>
                    <a:pt x="1086" y="1306"/>
                  </a:lnTo>
                  <a:lnTo>
                    <a:pt x="1151" y="1310"/>
                  </a:lnTo>
                  <a:lnTo>
                    <a:pt x="1173" y="1317"/>
                  </a:lnTo>
                  <a:lnTo>
                    <a:pt x="1217" y="1324"/>
                  </a:lnTo>
                  <a:lnTo>
                    <a:pt x="1268" y="1346"/>
                  </a:lnTo>
                  <a:lnTo>
                    <a:pt x="1246" y="1346"/>
                  </a:lnTo>
                  <a:lnTo>
                    <a:pt x="1217" y="1339"/>
                  </a:lnTo>
                  <a:lnTo>
                    <a:pt x="1181" y="1339"/>
                  </a:lnTo>
                  <a:lnTo>
                    <a:pt x="1144" y="1339"/>
                  </a:lnTo>
                  <a:lnTo>
                    <a:pt x="1155" y="1368"/>
                  </a:lnTo>
                  <a:lnTo>
                    <a:pt x="1100" y="1331"/>
                  </a:lnTo>
                  <a:lnTo>
                    <a:pt x="1089" y="1347"/>
                  </a:lnTo>
                  <a:lnTo>
                    <a:pt x="1063" y="1331"/>
                  </a:lnTo>
                  <a:lnTo>
                    <a:pt x="1033" y="1331"/>
                  </a:lnTo>
                  <a:lnTo>
                    <a:pt x="1071" y="1385"/>
                  </a:lnTo>
                  <a:lnTo>
                    <a:pt x="1025" y="1352"/>
                  </a:lnTo>
                  <a:lnTo>
                    <a:pt x="947" y="1310"/>
                  </a:lnTo>
                  <a:lnTo>
                    <a:pt x="895" y="1312"/>
                  </a:lnTo>
                  <a:lnTo>
                    <a:pt x="881" y="1280"/>
                  </a:lnTo>
                  <a:lnTo>
                    <a:pt x="868" y="1286"/>
                  </a:lnTo>
                  <a:lnTo>
                    <a:pt x="808" y="1281"/>
                  </a:lnTo>
                  <a:lnTo>
                    <a:pt x="931" y="1343"/>
                  </a:lnTo>
                  <a:lnTo>
                    <a:pt x="865" y="1362"/>
                  </a:lnTo>
                  <a:lnTo>
                    <a:pt x="988" y="1351"/>
                  </a:lnTo>
                  <a:lnTo>
                    <a:pt x="950" y="1373"/>
                  </a:lnTo>
                  <a:lnTo>
                    <a:pt x="924" y="1384"/>
                  </a:lnTo>
                  <a:lnTo>
                    <a:pt x="983" y="1385"/>
                  </a:lnTo>
                  <a:lnTo>
                    <a:pt x="1051" y="1420"/>
                  </a:lnTo>
                  <a:lnTo>
                    <a:pt x="1146" y="1410"/>
                  </a:lnTo>
                  <a:lnTo>
                    <a:pt x="1093" y="1436"/>
                  </a:lnTo>
                  <a:lnTo>
                    <a:pt x="1106" y="1435"/>
                  </a:lnTo>
                  <a:lnTo>
                    <a:pt x="1115" y="1436"/>
                  </a:lnTo>
                  <a:lnTo>
                    <a:pt x="1144" y="1443"/>
                  </a:lnTo>
                  <a:lnTo>
                    <a:pt x="1202" y="1436"/>
                  </a:lnTo>
                  <a:lnTo>
                    <a:pt x="1173" y="1443"/>
                  </a:lnTo>
                  <a:lnTo>
                    <a:pt x="1195" y="1451"/>
                  </a:lnTo>
                  <a:lnTo>
                    <a:pt x="1217" y="1451"/>
                  </a:lnTo>
                  <a:lnTo>
                    <a:pt x="1223" y="1465"/>
                  </a:lnTo>
                  <a:lnTo>
                    <a:pt x="1276" y="1465"/>
                  </a:lnTo>
                  <a:lnTo>
                    <a:pt x="1250" y="1475"/>
                  </a:lnTo>
                  <a:lnTo>
                    <a:pt x="1320" y="1488"/>
                  </a:lnTo>
                  <a:lnTo>
                    <a:pt x="1298" y="1495"/>
                  </a:lnTo>
                  <a:lnTo>
                    <a:pt x="1268" y="1495"/>
                  </a:lnTo>
                  <a:lnTo>
                    <a:pt x="1239" y="1495"/>
                  </a:lnTo>
                  <a:lnTo>
                    <a:pt x="1210" y="1481"/>
                  </a:lnTo>
                  <a:lnTo>
                    <a:pt x="1188" y="1472"/>
                  </a:lnTo>
                  <a:lnTo>
                    <a:pt x="1159" y="1465"/>
                  </a:lnTo>
                  <a:lnTo>
                    <a:pt x="1122" y="1458"/>
                  </a:lnTo>
                  <a:lnTo>
                    <a:pt x="1085" y="1451"/>
                  </a:lnTo>
                  <a:lnTo>
                    <a:pt x="1048" y="1443"/>
                  </a:lnTo>
                  <a:lnTo>
                    <a:pt x="1019" y="1436"/>
                  </a:lnTo>
                  <a:lnTo>
                    <a:pt x="982" y="1436"/>
                  </a:lnTo>
                  <a:lnTo>
                    <a:pt x="938" y="1429"/>
                  </a:lnTo>
                  <a:lnTo>
                    <a:pt x="909" y="1421"/>
                  </a:lnTo>
                  <a:lnTo>
                    <a:pt x="887" y="1413"/>
                  </a:lnTo>
                  <a:lnTo>
                    <a:pt x="865" y="1413"/>
                  </a:lnTo>
                  <a:lnTo>
                    <a:pt x="902" y="1429"/>
                  </a:lnTo>
                  <a:lnTo>
                    <a:pt x="924" y="1443"/>
                  </a:lnTo>
                  <a:lnTo>
                    <a:pt x="969" y="1446"/>
                  </a:lnTo>
                  <a:lnTo>
                    <a:pt x="945" y="1466"/>
                  </a:lnTo>
                  <a:lnTo>
                    <a:pt x="1019" y="1474"/>
                  </a:lnTo>
                  <a:lnTo>
                    <a:pt x="1055" y="1495"/>
                  </a:lnTo>
                  <a:lnTo>
                    <a:pt x="1093" y="1503"/>
                  </a:lnTo>
                  <a:lnTo>
                    <a:pt x="1130" y="1519"/>
                  </a:lnTo>
                  <a:lnTo>
                    <a:pt x="1144" y="1517"/>
                  </a:lnTo>
                  <a:lnTo>
                    <a:pt x="1173" y="1525"/>
                  </a:lnTo>
                  <a:lnTo>
                    <a:pt x="1210" y="1532"/>
                  </a:lnTo>
                  <a:lnTo>
                    <a:pt x="1261" y="1548"/>
                  </a:lnTo>
                  <a:lnTo>
                    <a:pt x="1290" y="1555"/>
                  </a:lnTo>
                  <a:lnTo>
                    <a:pt x="1320" y="1562"/>
                  </a:lnTo>
                  <a:lnTo>
                    <a:pt x="1286" y="1572"/>
                  </a:lnTo>
                  <a:lnTo>
                    <a:pt x="1200" y="1554"/>
                  </a:lnTo>
                  <a:lnTo>
                    <a:pt x="1232" y="1584"/>
                  </a:lnTo>
                  <a:lnTo>
                    <a:pt x="1152" y="1550"/>
                  </a:lnTo>
                  <a:lnTo>
                    <a:pt x="1184" y="1584"/>
                  </a:lnTo>
                  <a:lnTo>
                    <a:pt x="1082" y="1558"/>
                  </a:lnTo>
                  <a:lnTo>
                    <a:pt x="1098" y="1601"/>
                  </a:lnTo>
                  <a:lnTo>
                    <a:pt x="1019" y="1535"/>
                  </a:lnTo>
                  <a:lnTo>
                    <a:pt x="1017" y="1576"/>
                  </a:lnTo>
                  <a:lnTo>
                    <a:pt x="973" y="1527"/>
                  </a:lnTo>
                  <a:lnTo>
                    <a:pt x="967" y="1562"/>
                  </a:lnTo>
                  <a:lnTo>
                    <a:pt x="987" y="1578"/>
                  </a:lnTo>
                  <a:lnTo>
                    <a:pt x="1019" y="1577"/>
                  </a:lnTo>
                  <a:lnTo>
                    <a:pt x="1023" y="1603"/>
                  </a:lnTo>
                  <a:lnTo>
                    <a:pt x="1078" y="1600"/>
                  </a:lnTo>
                  <a:lnTo>
                    <a:pt x="1115" y="1615"/>
                  </a:lnTo>
                  <a:lnTo>
                    <a:pt x="1151" y="1622"/>
                  </a:lnTo>
                  <a:lnTo>
                    <a:pt x="1288" y="1617"/>
                  </a:lnTo>
                  <a:lnTo>
                    <a:pt x="1230" y="1639"/>
                  </a:lnTo>
                  <a:lnTo>
                    <a:pt x="1320" y="1667"/>
                  </a:lnTo>
                  <a:lnTo>
                    <a:pt x="1349" y="1667"/>
                  </a:lnTo>
                  <a:lnTo>
                    <a:pt x="1378" y="1674"/>
                  </a:lnTo>
                  <a:lnTo>
                    <a:pt x="1407" y="1681"/>
                  </a:lnTo>
                  <a:lnTo>
                    <a:pt x="1430" y="1681"/>
                  </a:lnTo>
                  <a:lnTo>
                    <a:pt x="1393" y="1689"/>
                  </a:lnTo>
                  <a:lnTo>
                    <a:pt x="1324" y="1690"/>
                  </a:lnTo>
                  <a:lnTo>
                    <a:pt x="1406" y="1723"/>
                  </a:lnTo>
                  <a:lnTo>
                    <a:pt x="1283" y="1703"/>
                  </a:lnTo>
                  <a:lnTo>
                    <a:pt x="1288" y="1735"/>
                  </a:lnTo>
                  <a:lnTo>
                    <a:pt x="1261" y="1703"/>
                  </a:lnTo>
                  <a:lnTo>
                    <a:pt x="1190" y="1687"/>
                  </a:lnTo>
                  <a:lnTo>
                    <a:pt x="1217" y="1703"/>
                  </a:lnTo>
                  <a:lnTo>
                    <a:pt x="1224" y="1729"/>
                  </a:lnTo>
                  <a:lnTo>
                    <a:pt x="1151" y="1684"/>
                  </a:lnTo>
                  <a:lnTo>
                    <a:pt x="1194" y="1735"/>
                  </a:lnTo>
                  <a:lnTo>
                    <a:pt x="1132" y="1725"/>
                  </a:lnTo>
                  <a:lnTo>
                    <a:pt x="1069" y="1657"/>
                  </a:lnTo>
                  <a:lnTo>
                    <a:pt x="1078" y="1689"/>
                  </a:lnTo>
                  <a:lnTo>
                    <a:pt x="1048" y="1681"/>
                  </a:lnTo>
                  <a:lnTo>
                    <a:pt x="997" y="1674"/>
                  </a:lnTo>
                  <a:lnTo>
                    <a:pt x="925" y="1653"/>
                  </a:lnTo>
                  <a:lnTo>
                    <a:pt x="967" y="1681"/>
                  </a:lnTo>
                  <a:lnTo>
                    <a:pt x="989" y="1689"/>
                  </a:lnTo>
                  <a:lnTo>
                    <a:pt x="1026" y="1703"/>
                  </a:lnTo>
                  <a:lnTo>
                    <a:pt x="1063" y="1711"/>
                  </a:lnTo>
                  <a:lnTo>
                    <a:pt x="1115" y="1726"/>
                  </a:lnTo>
                  <a:lnTo>
                    <a:pt x="1151" y="1741"/>
                  </a:lnTo>
                  <a:lnTo>
                    <a:pt x="1203" y="1756"/>
                  </a:lnTo>
                  <a:lnTo>
                    <a:pt x="1232" y="1763"/>
                  </a:lnTo>
                  <a:lnTo>
                    <a:pt x="1254" y="1763"/>
                  </a:lnTo>
                  <a:lnTo>
                    <a:pt x="1276" y="1770"/>
                  </a:lnTo>
                  <a:lnTo>
                    <a:pt x="1312" y="1770"/>
                  </a:lnTo>
                  <a:lnTo>
                    <a:pt x="1334" y="1779"/>
                  </a:lnTo>
                  <a:lnTo>
                    <a:pt x="1305" y="1793"/>
                  </a:lnTo>
                  <a:lnTo>
                    <a:pt x="1283" y="1800"/>
                  </a:lnTo>
                  <a:lnTo>
                    <a:pt x="1254" y="1815"/>
                  </a:lnTo>
                  <a:lnTo>
                    <a:pt x="1232" y="1815"/>
                  </a:lnTo>
                  <a:lnTo>
                    <a:pt x="1203" y="1815"/>
                  </a:lnTo>
                  <a:lnTo>
                    <a:pt x="1136" y="1800"/>
                  </a:lnTo>
                  <a:lnTo>
                    <a:pt x="1122" y="1808"/>
                  </a:lnTo>
                  <a:lnTo>
                    <a:pt x="1079" y="1779"/>
                  </a:lnTo>
                  <a:lnTo>
                    <a:pt x="1041" y="1786"/>
                  </a:lnTo>
                  <a:lnTo>
                    <a:pt x="967" y="1745"/>
                  </a:lnTo>
                  <a:lnTo>
                    <a:pt x="982" y="1770"/>
                  </a:lnTo>
                  <a:lnTo>
                    <a:pt x="907" y="1772"/>
                  </a:lnTo>
                  <a:lnTo>
                    <a:pt x="1063" y="1809"/>
                  </a:lnTo>
                  <a:lnTo>
                    <a:pt x="1070" y="1838"/>
                  </a:lnTo>
                  <a:lnTo>
                    <a:pt x="1148" y="1821"/>
                  </a:lnTo>
                  <a:lnTo>
                    <a:pt x="1144" y="1853"/>
                  </a:lnTo>
                  <a:lnTo>
                    <a:pt x="1190" y="1858"/>
                  </a:lnTo>
                  <a:lnTo>
                    <a:pt x="1203" y="1867"/>
                  </a:lnTo>
                  <a:lnTo>
                    <a:pt x="1239" y="1875"/>
                  </a:lnTo>
                  <a:lnTo>
                    <a:pt x="1210" y="1889"/>
                  </a:lnTo>
                  <a:lnTo>
                    <a:pt x="1188" y="1889"/>
                  </a:lnTo>
                  <a:lnTo>
                    <a:pt x="1144" y="1905"/>
                  </a:lnTo>
                  <a:lnTo>
                    <a:pt x="1100" y="1905"/>
                  </a:lnTo>
                  <a:lnTo>
                    <a:pt x="1137" y="1912"/>
                  </a:lnTo>
                  <a:lnTo>
                    <a:pt x="1159" y="1912"/>
                  </a:lnTo>
                  <a:lnTo>
                    <a:pt x="1195" y="1920"/>
                  </a:lnTo>
                  <a:lnTo>
                    <a:pt x="1294" y="1904"/>
                  </a:lnTo>
                  <a:lnTo>
                    <a:pt x="1258" y="1934"/>
                  </a:lnTo>
                  <a:lnTo>
                    <a:pt x="1302" y="1912"/>
                  </a:lnTo>
                  <a:lnTo>
                    <a:pt x="1254" y="1951"/>
                  </a:lnTo>
                  <a:lnTo>
                    <a:pt x="1310" y="1955"/>
                  </a:lnTo>
                  <a:lnTo>
                    <a:pt x="1378" y="1942"/>
                  </a:lnTo>
                  <a:lnTo>
                    <a:pt x="1400" y="1949"/>
                  </a:lnTo>
                  <a:lnTo>
                    <a:pt x="1422" y="1949"/>
                  </a:lnTo>
                  <a:lnTo>
                    <a:pt x="1400" y="1972"/>
                  </a:lnTo>
                  <a:lnTo>
                    <a:pt x="1378" y="1972"/>
                  </a:lnTo>
                  <a:lnTo>
                    <a:pt x="1330" y="1973"/>
                  </a:lnTo>
                  <a:lnTo>
                    <a:pt x="1327" y="1994"/>
                  </a:lnTo>
                  <a:lnTo>
                    <a:pt x="1262" y="1969"/>
                  </a:lnTo>
                  <a:lnTo>
                    <a:pt x="1276" y="1994"/>
                  </a:lnTo>
                  <a:lnTo>
                    <a:pt x="1232" y="1971"/>
                  </a:lnTo>
                  <a:lnTo>
                    <a:pt x="1226" y="2010"/>
                  </a:lnTo>
                  <a:lnTo>
                    <a:pt x="1148" y="1957"/>
                  </a:lnTo>
                  <a:lnTo>
                    <a:pt x="1166" y="1986"/>
                  </a:lnTo>
                  <a:lnTo>
                    <a:pt x="1114" y="1957"/>
                  </a:lnTo>
                  <a:lnTo>
                    <a:pt x="640" y="1898"/>
                  </a:lnTo>
                  <a:lnTo>
                    <a:pt x="278" y="1659"/>
                  </a:lnTo>
                  <a:lnTo>
                    <a:pt x="278" y="16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PlaceHolder 1"/>
          <p:cNvSpPr>
            <a:spLocks noGrp="1"/>
          </p:cNvSpPr>
          <p:nvPr>
            <p:ph type="dt" idx="73"/>
          </p:nvPr>
        </p:nvSpPr>
        <p:spPr>
          <a:xfrm>
            <a:off x="193680" y="6313320"/>
            <a:ext cx="2612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ftr" idx="74"/>
          </p:nvPr>
        </p:nvSpPr>
        <p:spPr>
          <a:xfrm>
            <a:off x="2911320" y="6313320"/>
            <a:ext cx="3332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sldNum" idx="75"/>
          </p:nvPr>
        </p:nvSpPr>
        <p:spPr>
          <a:xfrm>
            <a:off x="6348240" y="6313320"/>
            <a:ext cx="26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B81A-11B9-4709-8532-66BBD08D1424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-1542240" y="-25560"/>
            <a:ext cx="10686240" cy="7440120"/>
            <a:chOff x="-1542240" y="-25560"/>
            <a:chExt cx="10686240" cy="7440120"/>
          </a:xfrm>
        </p:grpSpPr>
        <p:grpSp>
          <p:nvGrpSpPr>
            <p:cNvPr id="197" name=""/>
            <p:cNvGrpSpPr/>
            <p:nvPr/>
          </p:nvGrpSpPr>
          <p:grpSpPr>
            <a:xfrm>
              <a:off x="0" y="-14400"/>
              <a:ext cx="9144000" cy="6886800"/>
              <a:chOff x="0" y="-14400"/>
              <a:chExt cx="9144000" cy="6886800"/>
            </a:xfrm>
          </p:grpSpPr>
          <p:sp>
            <p:nvSpPr>
              <p:cNvPr id="198" name=""/>
              <p:cNvSpPr/>
              <p:nvPr/>
            </p:nvSpPr>
            <p:spPr>
              <a:xfrm>
                <a:off x="2590920" y="-7920"/>
                <a:ext cx="2757240" cy="687852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-11160"/>
                <a:ext cx="2757600" cy="687240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943600" y="-6480"/>
                <a:ext cx="2760840" cy="6873840"/>
              </a:xfrm>
              <a:custGeom>
                <a:avLst/>
                <a:gdLst/>
                <a:ahLst/>
                <a:rect l="l" t="t" r="r" b="b"/>
                <a:pathLst>
                  <a:path w="1739" h="4420">
                    <a:moveTo>
                      <a:pt x="494" y="4415"/>
                    </a:moveTo>
                    <a:lnTo>
                      <a:pt x="1739" y="44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4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048120" y="-14400"/>
                <a:ext cx="3301920" cy="6864480"/>
              </a:xfrm>
              <a:custGeom>
                <a:avLst/>
                <a:gdLst/>
                <a:ahLst/>
                <a:rect l="l" t="t" r="r" b="b"/>
                <a:pathLst>
                  <a:path w="2080" h="4338">
                    <a:moveTo>
                      <a:pt x="0" y="7"/>
                    </a:moveTo>
                    <a:lnTo>
                      <a:pt x="1870" y="4338"/>
                    </a:lnTo>
                    <a:lnTo>
                      <a:pt x="2080" y="4338"/>
                    </a:lnTo>
                    <a:lnTo>
                      <a:pt x="1033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76520" y="25560"/>
                <a:ext cx="1981080" cy="684684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952880" y="0"/>
                <a:ext cx="1981440" cy="686592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7162920" y="2880"/>
                <a:ext cx="1981080" cy="68580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620712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0" y="6280200"/>
              <a:ext cx="9144000" cy="605880"/>
              <a:chOff x="0" y="6280200"/>
              <a:chExt cx="9144000" cy="605880"/>
            </a:xfrm>
          </p:grpSpPr>
          <p:sp>
            <p:nvSpPr>
              <p:cNvPr id="214" name=""/>
              <p:cNvSpPr/>
              <p:nvPr/>
            </p:nvSpPr>
            <p:spPr>
              <a:xfrm>
                <a:off x="2590920" y="6280200"/>
                <a:ext cx="2757240" cy="60588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6280200"/>
                <a:ext cx="2757600" cy="60552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43600" y="6280560"/>
                <a:ext cx="2760840" cy="605520"/>
              </a:xfrm>
              <a:custGeom>
                <a:avLst/>
                <a:gdLst/>
                <a:ahLst/>
                <a:rect l="l" t="t" r="r" b="b"/>
                <a:pathLst>
                  <a:path w="1739" h="4420">
                    <a:moveTo>
                      <a:pt x="494" y="4415"/>
                    </a:moveTo>
                    <a:lnTo>
                      <a:pt x="1739" y="44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4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048120" y="6280560"/>
                <a:ext cx="3301920" cy="604800"/>
              </a:xfrm>
              <a:custGeom>
                <a:avLst/>
                <a:gdLst/>
                <a:ahLst/>
                <a:rect l="l" t="t" r="r" b="b"/>
                <a:pathLst>
                  <a:path w="2080" h="4338">
                    <a:moveTo>
                      <a:pt x="0" y="7"/>
                    </a:moveTo>
                    <a:lnTo>
                      <a:pt x="1870" y="4338"/>
                    </a:lnTo>
                    <a:lnTo>
                      <a:pt x="2080" y="4338"/>
                    </a:lnTo>
                    <a:lnTo>
                      <a:pt x="1033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76520" y="6283080"/>
                <a:ext cx="1981080" cy="6030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952880" y="6280920"/>
                <a:ext cx="1981440" cy="6048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162920" y="6281280"/>
                <a:ext cx="1981080" cy="60408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0" y="620712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00400" y="621972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rot="18897000">
              <a:off x="2358720" y="61689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rot="18897000">
              <a:off x="1215720" y="616896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rot="18897000">
              <a:off x="47160" y="611892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913680" y="620640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380520" y="62064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4819680" y="628272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6324480" y="620640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5486400" y="620640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624060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0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B514-D81C-4BD8-893E-C1E45DC602D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-1542240" y="-25560"/>
            <a:ext cx="10686240" cy="6897960"/>
            <a:chOff x="-1542240" y="-25560"/>
            <a:chExt cx="10686240" cy="6897960"/>
          </a:xfrm>
        </p:grpSpPr>
        <p:grpSp>
          <p:nvGrpSpPr>
            <p:cNvPr id="274" name=""/>
            <p:cNvGrpSpPr/>
            <p:nvPr/>
          </p:nvGrpSpPr>
          <p:grpSpPr>
            <a:xfrm>
              <a:off x="0" y="-14400"/>
              <a:ext cx="9144000" cy="6886800"/>
              <a:chOff x="0" y="-14400"/>
              <a:chExt cx="9144000" cy="6886800"/>
            </a:xfrm>
          </p:grpSpPr>
          <p:sp>
            <p:nvSpPr>
              <p:cNvPr id="275" name=""/>
              <p:cNvSpPr/>
              <p:nvPr/>
            </p:nvSpPr>
            <p:spPr>
              <a:xfrm>
                <a:off x="2590920" y="-7920"/>
                <a:ext cx="2757240" cy="687852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-11160"/>
                <a:ext cx="2757600" cy="6872400"/>
              </a:xfrm>
              <a:custGeom>
                <a:avLst/>
                <a:gdLst/>
                <a:ahLst/>
                <a:rect l="l" t="t" r="r" b="b"/>
                <a:pathLst>
                  <a:path w="1737" h="4320">
                    <a:moveTo>
                      <a:pt x="494" y="4309"/>
                    </a:moveTo>
                    <a:lnTo>
                      <a:pt x="1737" y="43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3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943600" y="-6480"/>
                <a:ext cx="2760840" cy="6873840"/>
              </a:xfrm>
              <a:custGeom>
                <a:avLst/>
                <a:gdLst/>
                <a:ahLst/>
                <a:rect l="l" t="t" r="r" b="b"/>
                <a:pathLst>
                  <a:path w="1739" h="4420">
                    <a:moveTo>
                      <a:pt x="494" y="4415"/>
                    </a:moveTo>
                    <a:lnTo>
                      <a:pt x="1739" y="4420"/>
                    </a:lnTo>
                    <a:lnTo>
                      <a:pt x="524" y="0"/>
                    </a:lnTo>
                    <a:lnTo>
                      <a:pt x="0" y="7"/>
                    </a:lnTo>
                    <a:lnTo>
                      <a:pt x="494" y="44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048120" y="-14400"/>
                <a:ext cx="3301920" cy="6864480"/>
              </a:xfrm>
              <a:custGeom>
                <a:avLst/>
                <a:gdLst/>
                <a:ahLst/>
                <a:rect l="l" t="t" r="r" b="b"/>
                <a:pathLst>
                  <a:path w="2080" h="4338">
                    <a:moveTo>
                      <a:pt x="0" y="7"/>
                    </a:moveTo>
                    <a:lnTo>
                      <a:pt x="1870" y="4338"/>
                    </a:lnTo>
                    <a:lnTo>
                      <a:pt x="2080" y="4338"/>
                    </a:lnTo>
                    <a:lnTo>
                      <a:pt x="1033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676520" y="25560"/>
                <a:ext cx="1981080" cy="684684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952880" y="0"/>
                <a:ext cx="1981440" cy="686592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7162920" y="2880"/>
                <a:ext cx="1981080" cy="6858000"/>
              </a:xfrm>
              <a:custGeom>
                <a:avLst/>
                <a:gdLst/>
                <a:ahLst/>
                <a:rect l="l" t="t" r="r" b="b"/>
                <a:pathLst>
                  <a:path w="1248" h="4320">
                    <a:moveTo>
                      <a:pt x="528" y="4320"/>
                    </a:moveTo>
                    <a:lnTo>
                      <a:pt x="1248" y="432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528" y="43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6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0" y="3319560"/>
              <a:ext cx="9144000" cy="1762920"/>
              <a:chOff x="0" y="3319560"/>
              <a:chExt cx="9144000" cy="176292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3875040"/>
                <a:ext cx="9144000" cy="685800"/>
              </a:xfrm>
              <a:prstGeom prst="rect">
                <a:avLst/>
              </a:prstGeom>
              <a:gradFill rotWithShape="0">
                <a:gsLst>
                  <a:gs pos="0">
                    <a:srgbClr val="00004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0" y="3948120"/>
                <a:ext cx="9144000" cy="605880"/>
                <a:chOff x="0" y="3948120"/>
                <a:chExt cx="9144000" cy="605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590920" y="3948120"/>
                  <a:ext cx="2757240" cy="605880"/>
                </a:xfrm>
                <a:custGeom>
                  <a:avLst/>
                  <a:gdLst/>
                  <a:ahLst/>
                  <a:rect l="l" t="t" r="r" b="b"/>
                  <a:pathLst>
                    <a:path w="1737" h="4320">
                      <a:moveTo>
                        <a:pt x="494" y="4309"/>
                      </a:moveTo>
                      <a:lnTo>
                        <a:pt x="1737" y="4320"/>
                      </a:lnTo>
                      <a:lnTo>
                        <a:pt x="524" y="0"/>
                      </a:lnTo>
                      <a:lnTo>
                        <a:pt x="0" y="7"/>
                      </a:lnTo>
                      <a:lnTo>
                        <a:pt x="494" y="430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0" y="3948120"/>
                  <a:ext cx="2757600" cy="605520"/>
                </a:xfrm>
                <a:custGeom>
                  <a:avLst/>
                  <a:gdLst/>
                  <a:ahLst/>
                  <a:rect l="l" t="t" r="r" b="b"/>
                  <a:pathLst>
                    <a:path w="1737" h="4320">
                      <a:moveTo>
                        <a:pt x="494" y="4309"/>
                      </a:moveTo>
                      <a:lnTo>
                        <a:pt x="1737" y="4320"/>
                      </a:lnTo>
                      <a:lnTo>
                        <a:pt x="524" y="0"/>
                      </a:lnTo>
                      <a:lnTo>
                        <a:pt x="0" y="7"/>
                      </a:lnTo>
                      <a:lnTo>
                        <a:pt x="494" y="430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943600" y="3948480"/>
                  <a:ext cx="2760840" cy="605520"/>
                </a:xfrm>
                <a:custGeom>
                  <a:avLst/>
                  <a:gdLst/>
                  <a:ahLst/>
                  <a:rect l="l" t="t" r="r" b="b"/>
                  <a:pathLst>
                    <a:path w="1739" h="4420">
                      <a:moveTo>
                        <a:pt x="494" y="4415"/>
                      </a:moveTo>
                      <a:lnTo>
                        <a:pt x="1739" y="4420"/>
                      </a:lnTo>
                      <a:lnTo>
                        <a:pt x="524" y="0"/>
                      </a:lnTo>
                      <a:lnTo>
                        <a:pt x="0" y="7"/>
                      </a:lnTo>
                      <a:lnTo>
                        <a:pt x="494" y="441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048120" y="3948480"/>
                  <a:ext cx="3301920" cy="604800"/>
                </a:xfrm>
                <a:custGeom>
                  <a:avLst/>
                  <a:gdLst/>
                  <a:ahLst/>
                  <a:rect l="l" t="t" r="r" b="b"/>
                  <a:pathLst>
                    <a:path w="2080" h="4338">
                      <a:moveTo>
                        <a:pt x="0" y="7"/>
                      </a:moveTo>
                      <a:lnTo>
                        <a:pt x="1870" y="4338"/>
                      </a:lnTo>
                      <a:lnTo>
                        <a:pt x="2080" y="4338"/>
                      </a:lnTo>
                      <a:lnTo>
                        <a:pt x="103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4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76520" y="3951000"/>
                  <a:ext cx="1981080" cy="603000"/>
                </a:xfrm>
                <a:custGeom>
                  <a:avLst/>
                  <a:gdLst/>
                  <a:ahLst/>
                  <a:rect l="l" t="t" r="r" b="b"/>
                  <a:pathLst>
                    <a:path w="1248" h="4320">
                      <a:moveTo>
                        <a:pt x="528" y="4320"/>
                      </a:moveTo>
                      <a:lnTo>
                        <a:pt x="1248" y="4320"/>
                      </a:lnTo>
                      <a:lnTo>
                        <a:pt x="384" y="0"/>
                      </a:lnTo>
                      <a:lnTo>
                        <a:pt x="0" y="0"/>
                      </a:lnTo>
                      <a:lnTo>
                        <a:pt x="528" y="43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86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952880" y="3948840"/>
                  <a:ext cx="1981440" cy="604800"/>
                </a:xfrm>
                <a:custGeom>
                  <a:avLst/>
                  <a:gdLst/>
                  <a:ahLst/>
                  <a:rect l="l" t="t" r="r" b="b"/>
                  <a:pathLst>
                    <a:path w="1248" h="4320">
                      <a:moveTo>
                        <a:pt x="528" y="4320"/>
                      </a:moveTo>
                      <a:lnTo>
                        <a:pt x="1248" y="4320"/>
                      </a:lnTo>
                      <a:lnTo>
                        <a:pt x="384" y="0"/>
                      </a:lnTo>
                      <a:lnTo>
                        <a:pt x="0" y="0"/>
                      </a:lnTo>
                      <a:lnTo>
                        <a:pt x="528" y="43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86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V="1">
                  <a:off x="7162920" y="3949200"/>
                  <a:ext cx="1981080" cy="604080"/>
                </a:xfrm>
                <a:custGeom>
                  <a:avLst/>
                  <a:gdLst/>
                  <a:ahLst/>
                  <a:rect l="l" t="t" r="r" b="b"/>
                  <a:pathLst>
                    <a:path w="1248" h="4320">
                      <a:moveTo>
                        <a:pt x="528" y="4320"/>
                      </a:moveTo>
                      <a:lnTo>
                        <a:pt x="1248" y="4320"/>
                      </a:lnTo>
                      <a:lnTo>
                        <a:pt x="384" y="0"/>
                      </a:lnTo>
                      <a:lnTo>
                        <a:pt x="0" y="0"/>
                      </a:lnTo>
                      <a:lnTo>
                        <a:pt x="528" y="432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86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0" y="3875040"/>
                <a:ext cx="9144000" cy="685800"/>
              </a:xfrm>
              <a:prstGeom prst="rect">
                <a:avLst/>
              </a:prstGeom>
              <a:solidFill>
                <a:srgbClr val="00004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00400" y="3887640"/>
                <a:ext cx="1644840" cy="666720"/>
              </a:xfrm>
              <a:custGeom>
                <a:avLst/>
                <a:gdLst/>
                <a:ahLst/>
                <a:rect l="l" t="t" r="r" b="b"/>
                <a:pathLst>
                  <a:path w="1036" h="420">
                    <a:moveTo>
                      <a:pt x="1027" y="0"/>
                    </a:moveTo>
                    <a:cubicBezTo>
                      <a:pt x="508" y="159"/>
                      <a:pt x="167" y="347"/>
                      <a:pt x="0" y="417"/>
                    </a:cubicBezTo>
                    <a:cubicBezTo>
                      <a:pt x="0" y="417"/>
                      <a:pt x="12" y="418"/>
                      <a:pt x="24" y="420"/>
                    </a:cubicBezTo>
                    <a:cubicBezTo>
                      <a:pt x="237" y="321"/>
                      <a:pt x="708" y="105"/>
                      <a:pt x="1036" y="16"/>
                    </a:cubicBezTo>
                    <a:cubicBezTo>
                      <a:pt x="1036" y="16"/>
                      <a:pt x="1027" y="0"/>
                      <a:pt x="10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rot="18897000">
                <a:off x="2358720" y="3836880"/>
                <a:ext cx="1683000" cy="76176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18897000">
                <a:off x="1215720" y="3836880"/>
                <a:ext cx="1683000" cy="76176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rot="18897000">
                <a:off x="47160" y="3786840"/>
                <a:ext cx="1641600" cy="77292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913680" y="3874320"/>
                <a:ext cx="563868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380520" y="3874320"/>
                <a:ext cx="243864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4819680" y="3950640"/>
                <a:ext cx="2114640" cy="60804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flipV="1">
                <a:off x="6324480" y="3874320"/>
                <a:ext cx="243864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flipV="1">
                <a:off x="5486400" y="3874320"/>
                <a:ext cx="3657600" cy="685800"/>
              </a:xfrm>
              <a:custGeom>
                <a:avLst/>
                <a:gdLst/>
                <a:ahLst/>
                <a:rect l="l" t="t" r="r" b="b"/>
                <a:pathLst>
                  <a:path w="4763" h="1845">
                    <a:moveTo>
                      <a:pt x="0" y="1778"/>
                    </a:moveTo>
                    <a:cubicBezTo>
                      <a:pt x="2065" y="797"/>
                      <a:pt x="3942" y="281"/>
                      <a:pt x="4742" y="0"/>
                    </a:cubicBezTo>
                    <a:lnTo>
                      <a:pt x="4763" y="42"/>
                    </a:lnTo>
                    <a:cubicBezTo>
                      <a:pt x="3976" y="350"/>
                      <a:pt x="1830" y="918"/>
                      <a:pt x="20" y="1845"/>
                    </a:cubicBezTo>
                    <a:cubicBezTo>
                      <a:pt x="20" y="1845"/>
                      <a:pt x="0" y="1778"/>
                      <a:pt x="0" y="177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50000">
                    <a:srgbClr val="2663a0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3908520"/>
                <a:ext cx="9144000" cy="21960"/>
              </a:xfrm>
              <a:prstGeom prst="rect">
                <a:avLst/>
              </a:prstGeom>
              <a:gradFill rotWithShape="0">
                <a:gsLst>
                  <a:gs pos="0">
                    <a:srgbClr val="000044"/>
                  </a:gs>
                  <a:gs pos="50000">
                    <a:srgbClr val="9ce157"/>
                  </a:gs>
                  <a:gs pos="100000">
                    <a:srgbClr val="00004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1219320" y="2590920"/>
              <a:ext cx="38088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76EB-F3C3-4A5F-A8DE-D6D8B30C0D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5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6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7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8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8419-7553-40A4-A3D7-AB60B9945007}" type="slidenum">
              <a:rPr b="0" lang="en-A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0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dt" idx="19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ftr" idx="20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E60A-F119-4705-9EF8-CC7C8E2F51CC}" type="slidenum">
              <a:rPr b="0" lang="en-A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4" name=""/>
            <p:cNvSpPr/>
            <p:nvPr/>
          </p:nvSpPr>
          <p:spPr>
            <a:xfrm>
              <a:off x="8839080" y="1828800"/>
              <a:ext cx="304920" cy="50292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90920" y="1828800"/>
              <a:ext cx="6248160" cy="50292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0"/>
              <a:ext cx="609480" cy="3581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7" name="" descr=""/>
            <p:cNvPicPr/>
            <p:nvPr/>
          </p:nvPicPr>
          <p:blipFill>
            <a:blip r:embed="rId2"/>
            <a:stretch/>
          </p:blipFill>
          <p:spPr>
            <a:xfrm>
              <a:off x="2743200" y="0"/>
              <a:ext cx="57150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3"/>
            <a:srcRect l="64006" t="0" r="0" b="0"/>
            <a:stretch/>
          </p:blipFill>
          <p:spPr>
            <a:xfrm>
              <a:off x="0" y="0"/>
              <a:ext cx="20574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4"/>
            <a:stretch/>
          </p:blipFill>
          <p:spPr>
            <a:xfrm>
              <a:off x="228600" y="1752480"/>
              <a:ext cx="2857680" cy="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2819520" y="6705720"/>
              <a:ext cx="3886200" cy="1522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1DD2-983D-48AE-8D2B-2643A4D22B49}" type="slidenum">
              <a:rPr b="0" lang="en-A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3" name=""/>
            <p:cNvSpPr/>
            <p:nvPr/>
          </p:nvSpPr>
          <p:spPr>
            <a:xfrm>
              <a:off x="8839080" y="3429000"/>
              <a:ext cx="304920" cy="34290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590920" y="3429000"/>
              <a:ext cx="6248160" cy="34290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0" y="0"/>
              <a:ext cx="609480" cy="3581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6" name="" descr=""/>
            <p:cNvPicPr/>
            <p:nvPr/>
          </p:nvPicPr>
          <p:blipFill>
            <a:blip r:embed="rId2"/>
            <a:srcRect l="0" t="0" r="58457" b="0"/>
            <a:stretch/>
          </p:blipFill>
          <p:spPr>
            <a:xfrm>
              <a:off x="2590920" y="0"/>
              <a:ext cx="655308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3"/>
            <a:srcRect l="64006" t="0" r="0" b="0"/>
            <a:stretch/>
          </p:blipFill>
          <p:spPr>
            <a:xfrm>
              <a:off x="0" y="0"/>
              <a:ext cx="20574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" descr=""/>
            <p:cNvPicPr/>
            <p:nvPr/>
          </p:nvPicPr>
          <p:blipFill>
            <a:blip r:embed="rId4"/>
            <a:stretch/>
          </p:blipFill>
          <p:spPr>
            <a:xfrm>
              <a:off x="380880" y="3200400"/>
              <a:ext cx="2857680" cy="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2819520" y="6705720"/>
              <a:ext cx="3886200" cy="1522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DCFC-C88E-4BA0-B62D-06A833FB0CFF}" type="slidenum">
              <a:rPr b="0" lang="en-A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3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images.google.com.au/imgres?imgurl=http://www.quantum-conservation.org/EEP/kowari.gif&amp;imgrefurl=http://www.quantum-conservation.org/EEP/KOWARI.html&amp;h=309&amp;w=350&amp;sz=78&amp;hl=en&amp;start=1&amp;tbnid=dq_f5iO72T5SzM:&amp;tbnh=106&amp;tbnw=120&amp;prev=/images%3Fq%3Dkowari%26gbv%3D2%26svnum%3D10%26hl%3Den%26sa%3DG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5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0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905120" y="184464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 Black"/>
              </a:rPr>
              <a:t>BEHAVIOURAL ADAPTA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1187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Behaviour in Anim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8640" cy="23493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2"/>
          <a:stretch/>
        </p:blipFill>
        <p:spPr>
          <a:xfrm>
            <a:off x="6553080" y="0"/>
            <a:ext cx="2590920" cy="195732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3"/>
          <a:stretch/>
        </p:blipFill>
        <p:spPr>
          <a:xfrm>
            <a:off x="0" y="5011560"/>
            <a:ext cx="2124000" cy="1846440"/>
          </a:xfrm>
          <a:prstGeom prst="rect">
            <a:avLst/>
          </a:prstGeom>
          <a:ln w="0">
            <a:noFill/>
          </a:ln>
        </p:spPr>
      </p:pic>
      <p:pic>
        <p:nvPicPr>
          <p:cNvPr id="1357" name="" descr=""/>
          <p:cNvPicPr/>
          <p:nvPr/>
        </p:nvPicPr>
        <p:blipFill>
          <a:blip r:embed="rId4"/>
          <a:stretch/>
        </p:blipFill>
        <p:spPr>
          <a:xfrm>
            <a:off x="6877080" y="4727520"/>
            <a:ext cx="2266920" cy="2130480"/>
          </a:xfrm>
          <a:prstGeom prst="rect">
            <a:avLst/>
          </a:prstGeom>
          <a:ln w="0">
            <a:noFill/>
          </a:ln>
        </p:spPr>
      </p:pic>
      <p:pic>
        <p:nvPicPr>
          <p:cNvPr id="1358" name="" descr=""/>
          <p:cNvPicPr/>
          <p:nvPr/>
        </p:nvPicPr>
        <p:blipFill>
          <a:blip r:embed="rId5"/>
          <a:stretch/>
        </p:blipFill>
        <p:spPr>
          <a:xfrm>
            <a:off x="0" y="3068640"/>
            <a:ext cx="1571760" cy="1873080"/>
          </a:xfrm>
          <a:prstGeom prst="rect">
            <a:avLst/>
          </a:prstGeom>
          <a:ln w="0">
            <a:noFill/>
          </a:ln>
        </p:spPr>
      </p:pic>
      <p:pic>
        <p:nvPicPr>
          <p:cNvPr id="1359" name="" descr=""/>
          <p:cNvPicPr/>
          <p:nvPr/>
        </p:nvPicPr>
        <p:blipFill>
          <a:blip r:embed="rId6"/>
          <a:stretch/>
        </p:blipFill>
        <p:spPr>
          <a:xfrm>
            <a:off x="2771640" y="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360" name="" descr=""/>
          <p:cNvPicPr/>
          <p:nvPr/>
        </p:nvPicPr>
        <p:blipFill>
          <a:blip r:embed="rId7"/>
          <a:stretch/>
        </p:blipFill>
        <p:spPr>
          <a:xfrm>
            <a:off x="6659640" y="206064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999933"/>
                </a:solidFill>
                <a:latin typeface="Times New Roman"/>
              </a:rPr>
              <a:t>Migration</a:t>
            </a:r>
            <a:endParaRPr b="0" lang="en-US" sz="6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The movement of large numbers of animals over long distances from one area to another area, and their subsequent return to their original home, is called migration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Animals usually migrate using the same route each time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A diverse range of species migrate – birds, fish, eels, insects and mammal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98" name="" descr=""/>
          <p:cNvPicPr/>
          <p:nvPr/>
        </p:nvPicPr>
        <p:blipFill>
          <a:blip r:embed="rId1"/>
          <a:stretch/>
        </p:blipFill>
        <p:spPr>
          <a:xfrm>
            <a:off x="6443640" y="-85680"/>
            <a:ext cx="27003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999933"/>
                </a:solidFill>
                <a:latin typeface="Times New Roman"/>
              </a:rPr>
              <a:t>Migration</a:t>
            </a:r>
            <a:endParaRPr b="0" lang="en-US" sz="66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Some animals may take years to complete their migration cycl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Winter and the disappearance of food – migration.  Very low temperatures can be fatal to some speci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Migration is an important survival strateg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999933"/>
                </a:solidFill>
                <a:latin typeface="Times New Roman"/>
              </a:rPr>
              <a:t>Bird Migration</a:t>
            </a:r>
            <a:endParaRPr b="0" lang="en-US" sz="6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15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More than 1/3 of the world’s species of birds migrat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1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999933"/>
                </a:solidFill>
                <a:latin typeface="Times New Roman"/>
              </a:rPr>
              <a:t>Why do birds migrate?</a:t>
            </a:r>
            <a:endParaRPr b="0" lang="en-US" sz="5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Birds need a constant supply of food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Approach of winter, reduction in food supply.  Migrate to warmer climate for a more abundant food suppl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Migratory behaviour enhances surviva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99933"/>
                </a:solidFill>
                <a:latin typeface="Times New Roman"/>
              </a:rPr>
              <a:t>How do birds know where to fly?</a:t>
            </a:r>
            <a:endParaRPr b="0" lang="en-US" sz="40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Innate, young birds are born ‘knowing’ to migrat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Sun, stars, Earth’s magnetic field help determine the direction of fligh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Times New Roman"/>
              </a:rPr>
              <a:t>Magnetite has been found in the tissues of some birds.  Its presence is related to the bird’s ability to navigate using the magnetic field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1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ff00"/>
                </a:solidFill>
                <a:latin typeface="Arial"/>
              </a:rPr>
              <a:t>Communication Behaviour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Communication in the animals is an innate behaviour.  Can be through:- touch, posture, sound, visual display and chemical sig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Communication behaviour is a response to a stimu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ff00"/>
                </a:solidFill>
                <a:latin typeface="Arial"/>
              </a:rPr>
              <a:t>Communication Behaviour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Important components of communication include: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Stimulus for the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Sender of a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Receiver to whom the signal is dire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e kind of signal s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How the signal is s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e behaviour of the 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e setting in which the communication occ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How does the Bower bird communicate that he is a good potential ma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ff00"/>
                </a:solidFill>
                <a:latin typeface="Arial"/>
              </a:rPr>
              <a:t>Communication Behaviour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Messages to trick a compet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Eg alarm calls to trick a competitor (p 34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ff00"/>
                </a:solidFill>
                <a:latin typeface="Arial"/>
              </a:rPr>
              <a:t>Communication Behaviour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3300"/>
                </a:solidFill>
                <a:latin typeface="Times New Roman"/>
              </a:rPr>
              <a:t>The language of b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The dance to indicate the location of a food source.  Bees also use sm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Why is it important for survival for worker bees to communicate to each regarding the location of a food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ff00"/>
                </a:solidFill>
                <a:latin typeface="Arial"/>
              </a:rPr>
              <a:t>Communication Behaviour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ff"/>
                </a:solidFill>
                <a:latin typeface="Times New Roman"/>
              </a:rPr>
              <a:t>COMMUNICATION UNDER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Sound is an important means of communication under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Sound is transmitted through water for long distances.  Light can only penetrate very short distances below the su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The range of whale and dolphin noises include: blips, clicks, groans, moans and snores, lasting from a few seconds to several hou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1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1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Innate versus learned behaviou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study of animal behaviour is called eth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focus of this section is to look at the function of particular behaviour, rather than the mechanisms underlying a particular behaviou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ff00"/>
                </a:solidFill>
                <a:latin typeface="Arial"/>
              </a:rPr>
              <a:t>Communication Behaviour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imes New Roman"/>
              </a:rPr>
              <a:t>Why do whales s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To locate and identify each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During court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1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1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ff00"/>
                </a:solidFill>
                <a:latin typeface="Arial"/>
              </a:rPr>
              <a:t>Communication Behaviour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3467160" cy="39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Times New Roman"/>
              </a:rPr>
              <a:t>Dolph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00ff"/>
                </a:solidFill>
                <a:latin typeface="Times New Roman"/>
              </a:rPr>
              <a:t>Use various sounds to communicate different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00ff"/>
                </a:solidFill>
                <a:latin typeface="Times New Roman"/>
              </a:rPr>
              <a:t>Use sounds for location and nav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AU" sz="2400" spc="-1" strike="noStrike">
                <a:solidFill>
                  <a:srgbClr val="0000ff"/>
                </a:solidFill>
                <a:latin typeface="Times New Roman"/>
              </a:rPr>
              <a:t>Echolocation</a:t>
            </a:r>
            <a:r>
              <a:rPr b="0" lang="en-AU" sz="2400" spc="-1" strike="noStrike">
                <a:solidFill>
                  <a:srgbClr val="ff00ff"/>
                </a:solidFill>
                <a:latin typeface="Times New Roman"/>
              </a:rPr>
              <a:t> for determining 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1" name=""/>
          <p:cNvGraphicFramePr/>
          <p:nvPr/>
        </p:nvGraphicFramePr>
        <p:xfrm>
          <a:off x="3708360" y="1380960"/>
          <a:ext cx="5435640" cy="4907160"/>
        </p:xfrm>
        <a:graphic>
          <a:graphicData uri="http://schemas.openxmlformats.org/drawingml/2006/table">
            <a:tbl>
              <a:tblPr/>
              <a:tblGrid>
                <a:gridCol w="3065400"/>
                <a:gridCol w="2370240"/>
              </a:tblGrid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avigation, hun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li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lay-chase, 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quaw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ourtship, ma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Y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Thr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Buz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larm, fright, dist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queaks, cracks, po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Resting, predator near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i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1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1" dur="500"/>
                                        <p:tgtEl>
                                          <p:spTgt spid="1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ff00"/>
                </a:solidFill>
                <a:latin typeface="Arial"/>
              </a:rPr>
              <a:t>Communication Behaviour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ff"/>
                </a:solidFill>
                <a:latin typeface="Times New Roman"/>
              </a:rPr>
              <a:t>CHEMICALS FOR 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Pherom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Used for identifying the location of food sources (leaving a pheromone trai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Attract members of the opposite sex (eg female dogs release a pheromone in the urine to notify males she is ready for mat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Can act over long or short di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Very easy for insects and other animals to locate a mate, even in sparsely populated are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1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1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1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1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1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Social and Territorial Interac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imes New Roman"/>
              </a:rPr>
              <a:t>Social Inte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Involves two or more individu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May involve cooperation (mating, food sour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May involve aggression and conflict as individuals or group to defend territory or select a m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1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Social and Territorial Interac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imes New Roman"/>
              </a:rPr>
              <a:t>Reproductive behaviours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(discussed further in chapter 1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Social and Territorial Interac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GROUP ORGAN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Size of groups and reasons for which the animals group v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A group may be permanent or stay together until its members are such that it splits in 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Being a member of a group is safer than being al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Different kinds of groups are found in different species of anim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Groups may be formed to make collecting food easier, for protection, for shelter or for ma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Whatever the reason, it increases the chances of survival of members of the group and the spec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Social and Territorial Interac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imes New Roman"/>
              </a:rPr>
              <a:t>GROUP ORGANIS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imes New Roman"/>
              </a:rPr>
              <a:t>Cas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Eg ants, bees, termites, some was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Each caste has a different structure and performs a different function in the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Social and Territorial Interac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GROUP ORGAN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Social Hierarch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at is a pecking order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Fighting occurs until an animal ‘knows its place’ in a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e higher an animal is in the pecking order the greater access to food and other aspects of life in the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Stronger animals in the group will have offspring that are more likely to be stronger members of the next gen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" descr=""/>
          <p:cNvPicPr/>
          <p:nvPr/>
        </p:nvPicPr>
        <p:blipFill>
          <a:blip r:embed="rId1"/>
          <a:stretch/>
        </p:blipFill>
        <p:spPr>
          <a:xfrm>
            <a:off x="98280" y="74520"/>
            <a:ext cx="8945640" cy="670896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6ff33"/>
                </a:solidFill>
                <a:latin typeface="Arial"/>
              </a:rPr>
              <a:t>Social and Territorial Inte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"/>
              </a:rPr>
              <a:t>GROUP 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be0e3"/>
                </a:solidFill>
                <a:latin typeface="Arial"/>
              </a:rPr>
              <a:t>A complex social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Arial"/>
              </a:rPr>
              <a:t>Eg – Baboons with a dominant male and other males in rank order beh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be0e3"/>
                </a:solidFill>
                <a:latin typeface="Arial"/>
              </a:rPr>
              <a:t>Why must a dog owner be the leader of the p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" descr=""/>
          <p:cNvPicPr/>
          <p:nvPr/>
        </p:nvPicPr>
        <p:blipFill>
          <a:blip r:embed="rId2"/>
          <a:stretch/>
        </p:blipFill>
        <p:spPr>
          <a:xfrm>
            <a:off x="2843280" y="5302080"/>
            <a:ext cx="2160360" cy="11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Social and Territorial Interac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Times New Roman"/>
              </a:rPr>
              <a:t>GROUP ORGANIS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imes New Roman"/>
              </a:rPr>
              <a:t>Territorial Behavi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Eg The dreaded Magpie swoop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Animals select a territory and defend it, protecting a mating territory or food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Impact"/>
              </a:rPr>
              <a:t>Innate Behaviour - definition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AU" sz="3200" spc="-1" strike="noStrike">
                <a:solidFill>
                  <a:srgbClr val="ffffcc"/>
                </a:solidFill>
                <a:latin typeface="Arial Narrow"/>
              </a:rPr>
              <a:t>When a behaviour is essentially the same in all members of a species, the behaviour is call innate or inborn behaviour. 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AU" sz="3200" spc="-1" strike="noStrike">
                <a:solidFill>
                  <a:srgbClr val="ffffcc"/>
                </a:solidFill>
                <a:latin typeface="Arial Narrow"/>
              </a:rPr>
              <a:t>It is genetically controlled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AU" sz="3200" spc="-1" strike="noStrike">
                <a:solidFill>
                  <a:srgbClr val="ffffcc"/>
                </a:solidFill>
                <a:latin typeface="Arial Narrow"/>
              </a:rPr>
              <a:t>List some innate animal behaviours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Social and Territorial Interac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9900"/>
                </a:solidFill>
                <a:latin typeface="Times New Roman"/>
              </a:rPr>
              <a:t>COMPET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Animals may compete for nesting places, positions in an hierarchy, e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Group dynamics is important for survival and reproduction in many spe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ecff"/>
                </a:solidFill>
                <a:latin typeface="Arial"/>
              </a:rPr>
              <a:t>Social and Territorial Interac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40323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8000"/>
                </a:solidFill>
                <a:latin typeface="Verdana"/>
              </a:rPr>
              <a:t>COOPE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Verdana"/>
              </a:rPr>
              <a:t>Animals often cooperate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4" name="" descr=""/>
          <p:cNvPicPr/>
          <p:nvPr/>
        </p:nvPicPr>
        <p:blipFill>
          <a:blip r:embed="rId1"/>
          <a:stretch/>
        </p:blipFill>
        <p:spPr>
          <a:xfrm>
            <a:off x="324000" y="4395960"/>
            <a:ext cx="3887640" cy="2043000"/>
          </a:xfrm>
          <a:prstGeom prst="rect">
            <a:avLst/>
          </a:prstGeom>
          <a:ln w="0">
            <a:noFill/>
          </a:ln>
        </p:spPr>
      </p:pic>
      <p:sp>
        <p:nvSpPr>
          <p:cNvPr id="1445" name=""/>
          <p:cNvSpPr/>
          <p:nvPr/>
        </p:nvSpPr>
        <p:spPr>
          <a:xfrm>
            <a:off x="4356000" y="1052640"/>
            <a:ext cx="4788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animals congregate in groups.  Wolves hunt in packs in order to corner their prey.  A wolf hunting singly would not be nearly as successful a hunter, and so we can call group hunting an adaptation since it increases the wolves’ chances of surv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9" dur="500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2" dur="500"/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7" dur="2000"/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Do Innate behaviours remain constan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nate behaviours are genetically determined and are similar in all members of the spec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However, innate behaviour is not necessarily fully developed at birth and may be modified by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is learning comes through trial-and-error and experi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2000"/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9" dur="500"/>
                                        <p:tgtEl>
                                          <p:spTgt spid="1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4" dur="500"/>
                                        <p:tgtEl>
                                          <p:spTgt spid="1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LEARNED BEHAVIOU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Some behaviours change as a result of maturation of the body of an organism due to hormonal and structural chan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These should not be confused with learned behaviours which are those that develop or change as a result of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able from page 343 repea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LEARNED BEHAVIOU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Condit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Eg food stimulus/respon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Pavlov’s Dog experiment – the ringing of a bell prior to feeding a dog.  Eventually the dog salivates just at the ringing of the bel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971640" y="1819440"/>
            <a:ext cx="73911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1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LEARNED BEHAVIOU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avlov’s experiment is known as Classical Conditi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Operant Conditioning is trial-and-err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1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1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079640" y="289080"/>
            <a:ext cx="77263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perant Conditio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sms make responses that have 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sequences serve to increase or decrease the likelihood of making that response ag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sponse can be associated with cues in th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put coins in a machine to obtain f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we refrain when a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ut of Or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ign is placed on the mach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0" dur="500"/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1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1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1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365120" y="394920"/>
            <a:ext cx="7297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 Aspects of Operant Conditio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operant conditioning, the stimulus is a cue, it does not elicit th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nt responses are volunt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operant conditioning, the response elicits a reinforcing stimulus, whereas in classical conditioning, the UCS elicits the reflexiv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1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1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365120" y="394920"/>
            <a:ext cx="7297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 Terms of Operant Conditio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inforc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ny procedure that increases th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unish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ny procedure that decreases th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s of reinforc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imary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atisfy a biological n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condary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ave learned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1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1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1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1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imes New Roman"/>
              </a:rPr>
              <a:t>Learned Behaviour - defini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dddddd"/>
                </a:solidFill>
                <a:latin typeface="Times New Roman"/>
              </a:rPr>
              <a:t>Learned behaviours are those that develop or change as we are shown how to do something.  Copy, trial-and-error are some of the ways animals learn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dddddd"/>
                </a:solidFill>
                <a:latin typeface="Times New Roman"/>
              </a:rPr>
              <a:t>When a behaviour is changed as a result of experience, learning has occurred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dddddd"/>
                </a:solidFill>
                <a:latin typeface="Times New Roman"/>
              </a:rPr>
              <a:t>Learning enables an animal to adapt to chang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LEARNED BEHAVIOU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3600" spc="-1" strike="noStrike" u="sng">
                <a:solidFill>
                  <a:srgbClr val="ff9900"/>
                </a:solidFill>
                <a:uFillTx/>
                <a:latin typeface="Times New Roman"/>
              </a:rPr>
              <a:t>Habit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e ability to ‘get used to’ a repeated stimulus, such as a noise, is called habitu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Why is Habituation important for anima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- Animals will respond to a noise if they think it has been made by a preda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- Habituation enable animals to distinguish the unimportant noises and shapes from those that are impor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- Habituation allows animals to ignore meaningless stimuli and save energy for activities critical for surviv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7" dur="2000"/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2" dur="2000"/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7" dur="500"/>
                                        <p:tgtEl>
                                          <p:spTgt spid="1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2" dur="500"/>
                                        <p:tgtEl>
                                          <p:spTgt spid="1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1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LEARNED BEHAVIOU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4000" spc="-1" strike="noStrike">
                <a:solidFill>
                  <a:srgbClr val="ff9900"/>
                </a:solidFill>
                <a:latin typeface="Times New Roman"/>
              </a:rPr>
              <a:t>Insigh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Insight learning is related to the ability of an animal to apply past experience to solving a new problem without a trial-and-error peri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Most highly developed in hum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lay forms an important part in developing problem-solving skills for later u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1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1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1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LEARNED BEHAVIOU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4000" spc="-1" strike="noStrike">
                <a:solidFill>
                  <a:srgbClr val="ff9900"/>
                </a:solidFill>
                <a:latin typeface="Times New Roman"/>
              </a:rPr>
              <a:t>Imprin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The formation of an attachment to something in the environment shortly after hatching or birth is called imprin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ff0033"/>
                </a:solidFill>
                <a:latin typeface="Times New Roman"/>
              </a:rPr>
              <a:t>The learning that takes place during imprinting is rapid and cannot be rever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1" dur="500"/>
                                        <p:tgtEl>
                                          <p:spTgt spid="1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Times New Roman"/>
              </a:rPr>
              <a:t>LEARNING FROM ANIMAL BEHAVIOU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If we understand the natural behaviour of animals, we can also analyse and interpret any change in behaviou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A change in animal behaviour can sometimes indicate a change in th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1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1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3044160" y="28116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tivity performed in response to 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303120" y="1144440"/>
            <a:ext cx="31165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nate Behavi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ehaviours that are essentially the same in all members of a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5848200" y="1073160"/>
            <a:ext cx="2395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arned Behavi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ehaviours that develop or change as a result of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79280" y="2349360"/>
            <a:ext cx="2881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hythmic behavi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g. Eating, sleeping, seasonal 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84320" y="335772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munication behavi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84320" y="39337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productive behavi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55240" y="4508640"/>
            <a:ext cx="25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etitive behavi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55600" y="5084640"/>
            <a:ext cx="25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ominance behavi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98160" y="57340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erritori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970720" y="503244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cial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084720" y="2205000"/>
            <a:ext cx="2735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nditioning –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spond to stimulus that normally does not elicit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796000" y="3141720"/>
            <a:ext cx="3348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perant conditioning –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nimal relates behaviour with reward or punishment and repeats or avoids behavi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300720" y="4292640"/>
            <a:ext cx="259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abituation –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ease to respond to stimu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867280" y="5013360"/>
            <a:ext cx="3060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rinting –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ssociation with an object after exposure to it very early in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580000" y="5950080"/>
            <a:ext cx="309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bservational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– learns from observing actions of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2205000"/>
            <a:ext cx="230328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Innate Behaviou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00"/>
                </a:solidFill>
                <a:latin typeface="Tahoma"/>
              </a:rPr>
              <a:t>Rhythmic Behaviou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Animals repeat behaviours at regular interv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Different species of animals may follow different patterns of rhythmic behavio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Differences in rhythmic behaviours may be a significant factor in the ability of a group of animals to exploit the resources within the area in which they live and avoid competition from other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Regulated by both internal and external f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internal – biological clo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 external – l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1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1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1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"/>
              </a:rPr>
              <a:t>Feeding Behaviou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17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Feeding may be: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On an individual ba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On a group ba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7" name="" descr=""/>
          <p:cNvPicPr/>
          <p:nvPr/>
        </p:nvPicPr>
        <p:blipFill>
          <a:blip r:embed="rId1"/>
          <a:stretch/>
        </p:blipFill>
        <p:spPr>
          <a:xfrm>
            <a:off x="6012000" y="1700280"/>
            <a:ext cx="2071440" cy="1992240"/>
          </a:xfrm>
          <a:prstGeom prst="rect">
            <a:avLst/>
          </a:prstGeom>
          <a:ln w="0">
            <a:noFill/>
          </a:ln>
        </p:spPr>
      </p:pic>
      <p:pic>
        <p:nvPicPr>
          <p:cNvPr id="1388" name="" descr=""/>
          <p:cNvPicPr/>
          <p:nvPr/>
        </p:nvPicPr>
        <p:blipFill>
          <a:blip r:embed="rId2"/>
          <a:stretch/>
        </p:blipFill>
        <p:spPr>
          <a:xfrm>
            <a:off x="1332000" y="3789360"/>
            <a:ext cx="1616040" cy="2424240"/>
          </a:xfrm>
          <a:prstGeom prst="rect">
            <a:avLst/>
          </a:prstGeom>
          <a:ln w="0">
            <a:noFill/>
          </a:ln>
        </p:spPr>
      </p:pic>
      <p:pic>
        <p:nvPicPr>
          <p:cNvPr id="1389" name="" descr=""/>
          <p:cNvPicPr/>
          <p:nvPr/>
        </p:nvPicPr>
        <p:blipFill>
          <a:blip r:embed="rId3"/>
          <a:stretch/>
        </p:blipFill>
        <p:spPr>
          <a:xfrm>
            <a:off x="5076720" y="4508640"/>
            <a:ext cx="3672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Times New Roman"/>
              </a:rPr>
              <a:t>Spider Web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dddddd"/>
                </a:solidFill>
                <a:latin typeface="Times New Roman"/>
              </a:rPr>
              <a:t>Many innate behaviours in spiders involve the use of silk – in feeding and in reproduc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AU" sz="3200" spc="-1" strike="noStrike">
                <a:solidFill>
                  <a:srgbClr val="dddddd"/>
                </a:solidFill>
                <a:latin typeface="Times New Roman"/>
              </a:rPr>
              <a:t>Spider webs vary in their design and structur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6156360" y="4149720"/>
            <a:ext cx="16160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cc00"/>
                </a:solidFill>
                <a:latin typeface="Times New Roman"/>
              </a:rPr>
              <a:t>Whales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1692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Times New Roman"/>
              </a:rPr>
              <a:t>The species of whales are classified into two major groups – Toothed and Bale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Times New Roman"/>
              </a:rPr>
              <a:t>Differing structures result in differing behaviours related to fun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Times New Roman"/>
              </a:rPr>
              <a:t>Gulping and skimming techniques suit the structures of the baleen whales (p34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Times New Roman"/>
              </a:rPr>
              <a:t>Bubble netting is used by the humpback whale (p347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5" name="" descr=""/>
          <p:cNvPicPr/>
          <p:nvPr/>
        </p:nvPicPr>
        <p:blipFill>
          <a:blip r:embed="rId1"/>
          <a:stretch/>
        </p:blipFill>
        <p:spPr>
          <a:xfrm>
            <a:off x="6227640" y="0"/>
            <a:ext cx="259092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00:29:43Z</dcterms:created>
  <dc:creator>clinnis</dc:creator>
  <dc:description/>
  <dc:language>en-US</dc:language>
  <cp:lastModifiedBy>Lyn Clarkson</cp:lastModifiedBy>
  <dcterms:modified xsi:type="dcterms:W3CDTF">2007-09-04T02:18:49Z</dcterms:modified>
  <cp:revision>17</cp:revision>
  <dc:subject/>
  <dc:title>BEHAVIOURAL ADAPTATIONS</dc:title>
</cp:coreProperties>
</file>